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B958-AA11-4BE8-AD9B-5EB74EB386E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4A85-8824-4062-9A07-81A438818B5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146-FC3E-4091-8E61-AF3BCD68DE5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A25-D385-4015-893B-559719A1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BD1-30B1-4834-BCD9-0CAAEBE2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01C-164A-4B92-A67E-CF557D9E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DFF-F878-4B0B-BF58-D4488C70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0DEC-341D-4876-8D44-AEA0160D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30DE-CE9D-4620-8055-2CBFA548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7E64-073A-4D8B-98CA-D627F116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52D5-0F6D-4EB6-8F0F-0519EB7B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912E-E373-4789-BBC7-D3424AC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12B3-085B-49B6-A766-4E857B40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9CEE-6A55-4609-9AC5-07CB922F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9CC-1B0D-4C7E-B48D-CEF97FDE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837B-15F9-4E81-B74D-30FB5CE0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958-56E0-4B09-8888-010900DA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AB02-FBBE-4EB0-8DF9-E3CB42AC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F930-10E8-4C7A-87E8-A0299AED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9022-AC17-466C-83C8-E1F9A819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0FF3A-09A0-41D9-A8B6-49C62419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D805F-5215-4CE3-BE92-5E762A58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020FE-CAED-4359-B513-EAE5F48A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5A316-1321-4D76-AA03-6B2D146E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F5ADF-2812-4EE9-B75C-8821C9B4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9AC-E562-4BF0-B68F-50DF454F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B6C83-6D37-4505-BB1A-4DBA222C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B1A7E-72D7-423C-BA5F-F4AA373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C83D7-187F-4F08-B4FF-4CA1F6D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4A704-459C-47A4-A36F-499DDC4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B28C6-FDF7-4423-A5D2-845A70C9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E5E05-79CA-438D-996A-B033D01F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7AA86-1A30-4770-9C14-1A1DC72A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F253-75E7-4FDF-9B8D-33BDC395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2547-E71B-4D48-B35F-FFAE78B0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95E9-8FE1-41C9-83F2-B0A452D9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587-50B4-47E7-83F3-D56A5465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1572-EA71-42BF-B1B9-4C27E4EF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BF65-3CD2-43AF-AB4A-AA020692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B8EC-CEA2-4F5B-A567-6374F509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E4E7-FD89-4657-87F4-9B389E2B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BDA9-D78A-4449-A70B-9D55347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5D825-265C-4193-BE69-77B79529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DB8D-403B-4170-9F1C-C0C6E69D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A9D3-A26A-42E8-A4EF-2748F0B9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BCEA7-BA03-4CDB-8AAA-9EB43B84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58B-3BED-4372-95AA-46E75E3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092-CA24-4F65-9F9C-18169F15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752-CA26-46A9-97D8-27C24F2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74F-0ECB-41D4-973D-14D367E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3F2-5E7C-4155-8173-D6CA9901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B6F5-B156-41DD-A95C-DC2F6D7B21E8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d4d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47E5-0801-4792-8EF6-27EB708CABB5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FECE-BD83-43BE-9F34-57DBF8121767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266-60B9-4998-AA44-AC2472274D99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401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Motion</a:t>
            </a:r>
            <a:endParaRPr b="0" lang="en-US" sz="44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79bb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79bb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97760" y="4078440"/>
            <a:ext cx="1152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357200" y="2928960"/>
            <a:ext cx="5162760" cy="1643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near Motion is movement of the body where all parts move in the same direction at the same time along a li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Line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1500120" y="5054760"/>
            <a:ext cx="4714920" cy="18032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1500120" y="435780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1500120" y="62866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Distance &amp;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placement is defined as a change in posi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tance is the path travelled from start to finish, regardless of direction.   </a:t>
            </a:r>
            <a:r>
              <a:rPr b="0" lang="en-AU" sz="2400" spc="-1" strike="noStrike">
                <a:solidFill>
                  <a:srgbClr val="7e4e99"/>
                </a:solidFill>
                <a:latin typeface="Georgia"/>
              </a:rPr>
              <a:t>Read pg: 67-6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rcRect l="0" t="0" r="0" b="13388"/>
          <a:stretch/>
        </p:blipFill>
        <p:spPr>
          <a:xfrm>
            <a:off x="642960" y="3121200"/>
            <a:ext cx="6748560" cy="3736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4286160" y="6715080"/>
            <a:ext cx="12859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eed can be calculated by dividing the distance travelled by the time it to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elocity is equal to the time it takes to change pos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th are expressed as metres per second or m/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2928960" y="2786040"/>
            <a:ext cx="2286000" cy="542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2571840" y="4286160"/>
            <a:ext cx="3029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rcRect l="0" t="0" r="0" b="2685"/>
          <a:stretch/>
        </p:blipFill>
        <p:spPr>
          <a:xfrm>
            <a:off x="1857240" y="4143240"/>
            <a:ext cx="5321520" cy="2714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’s important to remember that velocity deals with dire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change in velocity could be a change in speed, a change in direction or both. A tennis ball hit at 30 m/s over the net and then returned at 30 m/s over the net has still changed velocity because it has changed dir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 is the change in velocity over a period of time and when positive an object is speeding up and when negative it is slowing dow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hing with zero acceleration is simply not changing its velocity and could be moving at a constant velocit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is expressed as</a:t>
            </a: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/s</a:t>
            </a:r>
            <a:r>
              <a:rPr b="1" lang="en-AU" sz="2000" spc="-1" strike="noStrike">
                <a:solidFill>
                  <a:srgbClr val="000000"/>
                </a:solidFill>
                <a:latin typeface="Georgia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3189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871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Velocity &amp; Acceleration Laboratory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Velocity &amp; Acceleration Laborato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2214720" y="1390680"/>
            <a:ext cx="4019400" cy="546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0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1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7004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2500560" cy="39481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286000" y="6143760"/>
            <a:ext cx="9288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642960" y="3143160"/>
            <a:ext cx="1917720" cy="270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4"/>
          <a:stretch/>
        </p:blipFill>
        <p:spPr>
          <a:xfrm>
            <a:off x="5072040" y="2635200"/>
            <a:ext cx="1785960" cy="4222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gular Motion is movement of a body part around an axis of rotation (real or imaginary)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1-7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tendency of an object to rota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Knowledg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Linear motion occurring in sport and physical activities from the perspective of acceleration and deceleration and both velocity and distance/displace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gular motion occurring in sport and physical activities by considering torque, angular velocity, momentum and moment of inerti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rque is the tendency of an object to rotate, and causes that object to rotate arou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sometimes referred to as moment of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214800" y="2166840"/>
            <a:ext cx="4143240" cy="4691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4e99"/>
                </a:solidFill>
                <a:latin typeface="Georgia"/>
              </a:rPr>
              <a:t>Read pg:72-7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just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bb1c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 rot="5400000">
            <a:off x="3857040" y="642924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5357880" y="3214800"/>
            <a:ext cx="1857240" cy="85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2365200" cy="1285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4"/>
          <a:stretch/>
        </p:blipFill>
        <p:spPr>
          <a:xfrm>
            <a:off x="714240" y="4714920"/>
            <a:ext cx="2600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642960" y="4282920"/>
            <a:ext cx="6786720" cy="25750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Length of level arm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Amount of force applied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in is a classic example of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bigger the lever arm and the greater the applied force – the greater the amount of spin of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786720" y="664380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29160" y="6715080"/>
            <a:ext cx="142884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381800" cy="2990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4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tanc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tance = the angular distance covered by a rotating body, e.g. a gymnast doing two full rotations on the high bar would cover 360°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 x 2 = 720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2571840" y="3571920"/>
            <a:ext cx="3143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placement = the change between the initial and final position of a rotating object, e.g. a gymnast doing a one and a half rotation on the high bar would displace only 180° even though they have covered 360° + 180° = 540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2643120" y="3819600"/>
            <a:ext cx="27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Speed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speed = angular distance covered ÷ time taken to complete rotation, e.g. a gymnast doing two full rotations in 2 seconds on the high bar would cover 360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º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x 2 = 720º ÷ 2 = 36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velocity = the rate of change of angular displacement, e.g. a gymnast doing a one and a half rotation in 1 second on the high bar would displace only 180º ÷ 1 = 18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acceleration = the rate of change of angular velocity or the rate of change in angular velocity – this can be positive or negative (deceleration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5-7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6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692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Skill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rrect use of terms that explain how biomechanical principles apply to a range of sporting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biomechanical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valuate the efficiency of various movements by applying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mpare and contrast a variety of sports movements and discuss the correct way biomechanical principles can be used to bring about improvemen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Biomechanical Principles of Motion Extens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view Questions pg7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Structured Questions - Mo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iomechanics is the study of living things from a mechanical perspective and is essentially the physics behind human m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cience of human movemen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tudy of how and why the human body mov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essential to assist in producing the best possible performanc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Role of a Biomechanis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alyse performan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Optimise techniqu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mprove  equipment desig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Prevent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Quantitative &amp; Qualitative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ntitative –numerical measuremen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– descriptive inform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se 2 measures assist in determining problems in techniq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is the most commonly used as most coaching situations use observ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formation can be gathered in the field, competition, or lab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Equipment use in 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 equipment includ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ideo analysis – which include split screens, drawing tools, screen overlays and image overlay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 shoe pressure senso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platform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myography (measures electrical activity in muscl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goniography (measure of joint ang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ometers (measures acceler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7091280" cy="1857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65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General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al motion involves translation and rotation at the same time. ie: Linear motion and Angular mo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500040" y="3286080"/>
            <a:ext cx="7072200" cy="2509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7T04:07:53Z</dcterms:modified>
  <cp:revision>153</cp:revision>
  <dc:subject/>
  <dc:title>Biomechanical Principles of Motion</dc:title>
</cp:coreProperties>
</file>