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D580-33DA-469C-8559-3BF5450913A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F9C3-1179-4450-8AA0-2EDE6E85C86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3D9C-FFA5-434E-8743-BB81E2DFD17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825-7FAC-489B-BBE6-B8757406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861-7B63-4983-82CF-92E2A4B8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CBA-FF6E-465A-A2E6-8BE25D8E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A64-3659-4012-8CB3-5B9D71F8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1A7F-1F43-4781-AA6D-F0CE8516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E9F4-B280-4974-9E0F-ED161610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91C4-B34E-486E-8E8A-5C8F6906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FD8A-E082-4788-BE6B-2E46EC6A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8260-9377-45A6-932F-9D1145FF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A434-9E3A-4D50-B849-09D60C97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0EAA-35E4-4F4B-B39B-CB520FA2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92A-BD4D-4EFB-A420-CE5F1016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06DE-30F8-4A71-B56B-DDA213CF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1268-B2BC-4210-9F6D-2574535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2D4D-D15D-41C6-A7F9-DAE4B3A3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C993-D126-47A9-B34C-F116C55A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9DA0-B250-458D-AF98-865F8AE7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1EAD7-393A-40CF-9104-0BCC5F8B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252CE-9B6A-4CEE-A142-80550154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0C3735-9A5B-441B-9719-EC14C3D0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0A112-0528-4D0E-B329-2A70DCC6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5156B1-EA87-4AC4-9530-C3A69186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2166-D7EC-4492-B6B3-B3B1A2CD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66E05-D989-4F57-A088-A3BD10EB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903AB-C174-4362-9117-A4F375B3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4E16E-9A54-4BD4-8C2B-C13E759C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66E66-1D5D-4095-A851-2E0DC2F2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BA9EA-4EE4-4D93-93AA-671B413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AD922-46F6-4460-8B3E-24F0D8EC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37DA5-7C96-4CBB-BD9D-B361096E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8FB5C-3500-451C-9A3B-65A00556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36F3-D5E7-4B98-91B2-C5ACEECE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6BD7-D5AA-404E-98AA-8EDBCDA8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FD5-C0FB-463F-925E-D7288DA3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2D69D-9454-4C78-A14A-DB730332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D560-827D-4488-BBFC-B1CE2860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65341-C1D8-4025-97CB-87140B98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28D8-5E29-439A-B917-1A1E2943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EE99-D1E1-400D-9575-6EB40D2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CE1CF-08E6-491C-90C2-19E3C5F0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BFCF3-6757-41AB-88CF-903A1D6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CB533-83E0-4928-806D-F2D4FD79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14F15-3861-4C18-B9C5-CFB99836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923-BC4D-4348-AC11-E490E68E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5EA-D543-4972-8745-9A30E4FE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EAE-59BF-449C-8C03-B9ADEAB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A78-0767-4B20-BF83-0F6A5FFA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F26-3FD9-4847-8C89-EAB4B7D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D328-AFED-4018-9FEE-44FC87DDA96A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d4d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701E-30FC-4592-9BDC-1915E704811D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13EC-27AF-4BD3-9EDC-50D20718C7B7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A086-A601-46B4-8B4D-DB25A7282F09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401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Motion</a:t>
            </a:r>
            <a:endParaRPr b="0" lang="en-US" sz="44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79bb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79bb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997760" y="4078440"/>
            <a:ext cx="1152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357200" y="2928960"/>
            <a:ext cx="5162760" cy="1643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near Motion is movement of the body where all parts move in the same direction at the same time along a li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Line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1500120" y="5054760"/>
            <a:ext cx="4714920" cy="18032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1500120" y="435780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1500120" y="62866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Distance &amp;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placement is defined as a change in posi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tance is the path travelled from start to finish, regardless of direction.   </a:t>
            </a:r>
            <a:r>
              <a:rPr b="0" lang="en-AU" sz="2400" spc="-1" strike="noStrike">
                <a:solidFill>
                  <a:srgbClr val="7e4e99"/>
                </a:solidFill>
                <a:latin typeface="Georgia"/>
              </a:rPr>
              <a:t>Read pg: 67-6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rcRect l="0" t="0" r="0" b="13388"/>
          <a:stretch/>
        </p:blipFill>
        <p:spPr>
          <a:xfrm>
            <a:off x="642960" y="3121200"/>
            <a:ext cx="6748560" cy="3736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4286160" y="6715080"/>
            <a:ext cx="12859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eed can be calculated by dividing the distance travelled by the time it to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elocity is equal to the time it takes to change pos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th are expressed as metres per second or m/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2928960" y="2786040"/>
            <a:ext cx="2286000" cy="542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2571840" y="4286160"/>
            <a:ext cx="3029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rcRect l="0" t="0" r="0" b="2685"/>
          <a:stretch/>
        </p:blipFill>
        <p:spPr>
          <a:xfrm>
            <a:off x="1857240" y="4143240"/>
            <a:ext cx="5321520" cy="2714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’s important to remember that velocity deals with direc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change in velocity could be a change in speed, a change in direction or both. A tennis ball hit at 30 m/s over the net and then returned at 30 m/s over the net has still changed velocity because it has changed dir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 is the change in velocity over a period of time and when positive an object is speeding up and when negative it is slowing dow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hing with zero acceleration is simply not changing its velocity and could be moving at a constant velocity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is expressed as</a:t>
            </a: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/s</a:t>
            </a:r>
            <a:r>
              <a:rPr b="1" lang="en-AU" sz="2000" spc="-1" strike="noStrike">
                <a:solidFill>
                  <a:srgbClr val="000000"/>
                </a:solidFill>
                <a:latin typeface="Georgia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2571840" y="3357720"/>
            <a:ext cx="3189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8715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Velocity &amp; Acceleration Laboratory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Velocity &amp; Acceleration Laborato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2214720" y="1390680"/>
            <a:ext cx="4019400" cy="546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0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1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7004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2500200" y="2571840"/>
            <a:ext cx="2500560" cy="39481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2286000" y="6143760"/>
            <a:ext cx="9288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642960" y="3143160"/>
            <a:ext cx="1917720" cy="2700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4"/>
          <a:stretch/>
        </p:blipFill>
        <p:spPr>
          <a:xfrm>
            <a:off x="5072040" y="2635200"/>
            <a:ext cx="1785960" cy="4222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gular Motion is movement of a body part around an axis of rotation (real or imaginary)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1-7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tendency of an object to rota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Knowledg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Linear motion occurring in sport and physical activities from the perspective of acceleration and deceleration and both velocity and distance/displace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gular motion occurring in sport and physical activities by considering torque, angular velocity, momentum and moment of inerti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rque is the tendency of an object to rotate, and causes that object to rotate arou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sometimes referred to as moment of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214800" y="2166840"/>
            <a:ext cx="4143240" cy="4691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4e99"/>
                </a:solidFill>
                <a:latin typeface="Georgia"/>
              </a:rPr>
              <a:t>Read pg:72-7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just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bb1c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 rot="5400000">
            <a:off x="3857040" y="642924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5357880" y="3214800"/>
            <a:ext cx="1857240" cy="85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2365200" cy="1285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4"/>
          <a:stretch/>
        </p:blipFill>
        <p:spPr>
          <a:xfrm>
            <a:off x="714240" y="4714920"/>
            <a:ext cx="2600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642960" y="4282920"/>
            <a:ext cx="6786720" cy="25750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Length of level arm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Amount of force applied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in is a classic example of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bigger the lever arm and the greater the applied force – the greater the amount of spin of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6786720" y="664380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429160" y="6715080"/>
            <a:ext cx="142884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381800" cy="2990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4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tanc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tance = the angular distance covered by a rotating body, e.g. a gymnast doing two full rotations on the high bar would cover 360°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 x 2 = 720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2571840" y="3571920"/>
            <a:ext cx="3143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placement = the change between the initial and final position of a rotating object, e.g. a gymnast doing a one and a half rotation on the high bar would displace only 180° even though they have covered 360° + 180° = 540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2643120" y="3819600"/>
            <a:ext cx="27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Speed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speed = angular distance covered ÷ time taken to complete rotation, e.g. a gymnast doing two full rotations in 2 seconds on the high bar would cover 360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º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x 2 = 720º ÷ 2 = 36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velocity = the rate of change of angular displacement, e.g. a gymnast doing a one and a half rotation in 1 second on the high bar would displace only 180º ÷ 1 = 18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acceleration = the rate of change of angular velocity or the rate of change in angular velocity – this can be positive or negative (deceleration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5-7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6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6929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Skill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rrect use of terms that explain how biomechanical principles apply to a range of sporting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biomechanical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valuate the efficiency of various movements by applying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mpare and contrast a variety of sports movements and discuss the correct way biomechanical principles can be used to bring about improvement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Biomechanical Principles of Motion Extens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view Questions pg7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Structured Questions - Mo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iomechanics is the study of living things from a mechanical perspective and is essentially the physics behind human m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cience of human movemen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tudy of how and why the human body mov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essential to assist in producing the best possible performanc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Role of a Biomechanis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alyse performan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Optimise techniqu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mprove  equipment desig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Prevent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Quantitative &amp; Qualitative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ntitative –numerical measuremen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– descriptive inform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se 2 measures assist in determining problems in techniqu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is the most commonly used as most coaching situations use observ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formation can be gathered in the field, competition, or lab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Equipment use in 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 equipment includ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ideo analysis – which include split screens, drawing tools, screen overlays and image overlay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 shoe pressure senso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platform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myography (measures electrical activity in muscl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goniography (measure of joint ang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ometers (measures accelera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7091280" cy="1857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65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General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al motion involves translation and rotation at the same time. ie: Linear motion and Angular mo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500040" y="3286080"/>
            <a:ext cx="7072200" cy="2509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7T04:07:53Z</dcterms:modified>
  <cp:revision>153</cp:revision>
  <dc:subject/>
  <dc:title>Biomechanical Principles of Motion</dc:title>
</cp:coreProperties>
</file>