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379bb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92F51-F6FC-44E4-A57A-6034F55070C3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A3F21-7B61-428B-84AD-01184DC19334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C62CC-68B9-4248-A400-182008EC9329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4839-2DA1-46ED-AF2E-E0528A458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1B6C-CAFF-4A37-B4B6-887615182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8A7D-F1AF-4CF5-8470-F113CAB07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C219-7380-461E-A326-5B78A8343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72F7F-9AB2-4594-BD7B-B1DED90D8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23D38-20D6-4B47-AF4E-79D0416EB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CEA72-3FEF-438F-AA8A-1916EB88E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CB1DB-2188-4907-98D0-924837EEB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C0BEB-49A3-4F0D-A755-9AD99902B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A81E8-A5E6-4720-AF79-6DDC56C2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C5CA5-237B-4BF5-87F7-66D58E68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D2E8-2EBA-40DB-BEF1-0F8590FBD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83BCD-97A2-424B-A301-D1F96081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9980C-CEE9-4796-A686-2710607F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992B8-BAF0-4885-A922-10D8C9E79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1A514-7544-4BCF-8423-918F3E46A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902BA-E9DA-4E80-9B0E-F359D2AD8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B8B25F-8B2F-444B-9D7B-DD3C14F43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B25EF4-05AA-4198-BB89-8EE346F23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D02CBD-EA00-4EAC-9573-896E53091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AF8B39-D642-4BBE-A230-49D10C758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DD7522-EA6E-42A2-A24F-ED560F025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04BA-252D-4552-A0AC-AE9BC2427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C85354-7103-4D9F-A45D-7B370A870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8C4127-5485-4EA5-86EE-A0525D90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938F58-2F7B-4465-BDB9-4E769DF0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C6A367-255D-470A-AA2A-C86EE390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9BE913-4677-4E07-99AA-2B2CEA7F4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9C54C2-597E-4D5F-9F34-D7E21B867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170B61-3AF0-430E-B781-961F8C6A2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22978-994C-4868-8147-6FFF9ADCD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AC930-4080-42BC-AF49-7E4F080F9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FAE56-F527-4FD6-B518-4FFDF930F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9344-A9A6-4D3D-BF33-4958C4C2C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3C531-C38A-4CC6-8CB1-6952B2482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08E18-091B-4283-8A28-90595841E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AC213-0613-4268-A915-6434F4789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C4523-D018-42CE-9B82-BC4E1B86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0496A-02FF-4305-A288-10F73CC1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A305B-1E63-4F59-87B5-936C773C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6698C-8DA3-4B12-91EA-C8701B57B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28893-D62D-444C-8507-7F6C40E4D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9B918-75B8-4846-9398-684C525FF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73DA-EA81-4F83-AEFE-B5BA7BA14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7184-0159-48A0-A965-08E700B85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B532-EAC1-4025-9FA5-8332B640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DDBC-C3A6-4498-881F-7066D8AB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5968-4C1C-43F1-8BC1-523D6A68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7d4d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a379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7d4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7d4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7d4d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379b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7d4d9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ece4f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ece4f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6bb1c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7d4d9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d4d9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2842A-21B3-41BC-9934-8B3B6120517E}" type="slidenum">
              <a:rPr b="0" lang="en-A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7d4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7d4d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7d4d9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7d4d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7d4d9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7d4d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7d4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7d4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a379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379b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7d4d9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ece4f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ece4f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6bb1c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7d4d9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d4d9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15DA6-97A2-47BB-84E5-DC264B15278D}" type="slidenum">
              <a:rPr b="0" lang="en-A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7d4d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a379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7d4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7d4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7d4d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379b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7d4d9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ece4f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ece4f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6bb1c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7d4d9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d4d9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F4E19-8BB5-4E94-9C57-3317CA345BC4}" type="slidenum">
              <a:rPr b="0" lang="en-A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7d4d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a379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7d4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7d4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7d4d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379b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7d4d9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ece4f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ece4f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6bb1c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7d4d9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d4d9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61C17-E4C9-4009-979B-890F7FBD6933}" type="slidenum">
              <a:rPr b="0" lang="en-A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24015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Biomechanical Principles of Motion</a:t>
            </a:r>
            <a:endParaRPr b="0" lang="en-US" sz="44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6840" y="3900600"/>
            <a:ext cx="5614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379bb"/>
                </a:solidFill>
                <a:latin typeface="Georgia"/>
              </a:rPr>
              <a:t>Unit 1: Bodies in Motion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379bb"/>
                </a:solidFill>
                <a:latin typeface="Georgia"/>
              </a:rPr>
              <a:t>AOS2: Biomechanical Movement Principl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3" name="Picture 3" descr=""/>
          <p:cNvPicPr/>
          <p:nvPr/>
        </p:nvPicPr>
        <p:blipFill>
          <a:blip r:embed="rId1"/>
          <a:stretch/>
        </p:blipFill>
        <p:spPr>
          <a:xfrm>
            <a:off x="7997760" y="4078440"/>
            <a:ext cx="11527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7" descr=""/>
          <p:cNvPicPr/>
          <p:nvPr/>
        </p:nvPicPr>
        <p:blipFill>
          <a:blip r:embed="rId1"/>
          <a:stretch/>
        </p:blipFill>
        <p:spPr>
          <a:xfrm>
            <a:off x="1357200" y="2928960"/>
            <a:ext cx="5162760" cy="16430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inear Motion is movement of the body where all parts move in the same direction at the same time along a line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Linear Motion 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261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8" descr=""/>
          <p:cNvPicPr/>
          <p:nvPr/>
        </p:nvPicPr>
        <p:blipFill>
          <a:blip r:embed="rId3"/>
          <a:stretch/>
        </p:blipFill>
        <p:spPr>
          <a:xfrm>
            <a:off x="1500120" y="5054760"/>
            <a:ext cx="4714920" cy="1803240"/>
          </a:xfrm>
          <a:prstGeom prst="rect">
            <a:avLst/>
          </a:prstGeom>
          <a:ln w="0">
            <a:noFill/>
          </a:ln>
        </p:spPr>
      </p:pic>
      <p:sp>
        <p:nvSpPr>
          <p:cNvPr id="263" name="TextBox 8"/>
          <p:cNvSpPr/>
          <p:nvPr/>
        </p:nvSpPr>
        <p:spPr>
          <a:xfrm>
            <a:off x="1500120" y="4357800"/>
            <a:ext cx="46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ilin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9"/>
          <p:cNvSpPr/>
          <p:nvPr/>
        </p:nvSpPr>
        <p:spPr>
          <a:xfrm>
            <a:off x="1500120" y="6286680"/>
            <a:ext cx="46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vilin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Distance &amp; Displacement 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Displacement is defined as a change in position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Distance is the path travelled from start to finish, regardless of direction.   </a:t>
            </a:r>
            <a:r>
              <a:rPr b="0" lang="en-AU" sz="2400" spc="-1" strike="noStrike">
                <a:solidFill>
                  <a:srgbClr val="7e4e99"/>
                </a:solidFill>
                <a:latin typeface="Georgia"/>
              </a:rPr>
              <a:t>Read pg: 67-68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7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268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67-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3" descr=""/>
          <p:cNvPicPr/>
          <p:nvPr/>
        </p:nvPicPr>
        <p:blipFill>
          <a:blip r:embed="rId2"/>
          <a:srcRect l="0" t="0" r="0" b="13388"/>
          <a:stretch/>
        </p:blipFill>
        <p:spPr>
          <a:xfrm>
            <a:off x="642960" y="3121200"/>
            <a:ext cx="6748560" cy="373680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7"/>
          <p:cNvSpPr/>
          <p:nvPr/>
        </p:nvSpPr>
        <p:spPr>
          <a:xfrm>
            <a:off x="4286160" y="6715080"/>
            <a:ext cx="1285920" cy="14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Speed &amp; Velocity 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Speed can be calculated by dividing the distance travelled by the time it took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Velocity is equal to the time it takes to change posi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Both are expressed as metres per second or m/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3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274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3" descr=""/>
          <p:cNvPicPr/>
          <p:nvPr/>
        </p:nvPicPr>
        <p:blipFill>
          <a:blip r:embed="rId2"/>
          <a:stretch/>
        </p:blipFill>
        <p:spPr>
          <a:xfrm>
            <a:off x="2928960" y="2786040"/>
            <a:ext cx="2286000" cy="5428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" descr=""/>
          <p:cNvPicPr/>
          <p:nvPr/>
        </p:nvPicPr>
        <p:blipFill>
          <a:blip r:embed="rId3"/>
          <a:stretch/>
        </p:blipFill>
        <p:spPr>
          <a:xfrm>
            <a:off x="2571840" y="4286160"/>
            <a:ext cx="302904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"/>
          <p:cNvPicPr/>
          <p:nvPr/>
        </p:nvPicPr>
        <p:blipFill>
          <a:blip r:embed="rId1"/>
          <a:srcRect l="0" t="0" r="0" b="2685"/>
          <a:stretch/>
        </p:blipFill>
        <p:spPr>
          <a:xfrm>
            <a:off x="1857240" y="4143240"/>
            <a:ext cx="5321520" cy="27147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Speed &amp; Velocity 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t’s important to remember that velocity deals with direction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A change in velocity could be a change in speed, a change in direction or both. A tennis ball hit at 30 m/s over the net and then returned at 30 m/s over the net has still changed velocity because it has changed direction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0" name="Picture 3" descr=""/>
          <p:cNvPicPr/>
          <p:nvPr/>
        </p:nvPicPr>
        <p:blipFill>
          <a:blip r:embed="rId2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281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Acceleration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Acceleration  is the change in velocity over a period of time and when positive an object is speeding up and when negative it is slowing down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Something with zero acceleration is simply not changing its velocity and could be moving at a constant velocity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Acceleration is expressed as</a:t>
            </a:r>
            <a:r>
              <a:rPr b="1" lang="en-A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m/s</a:t>
            </a:r>
            <a:r>
              <a:rPr b="1" lang="en-AU" sz="2000" spc="-1" strike="noStrike">
                <a:solidFill>
                  <a:srgbClr val="000000"/>
                </a:solidFill>
                <a:latin typeface="Georgia"/>
              </a:rPr>
              <a:t>²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4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285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2" descr=""/>
          <p:cNvPicPr/>
          <p:nvPr/>
        </p:nvPicPr>
        <p:blipFill>
          <a:blip r:embed="rId2"/>
          <a:stretch/>
        </p:blipFill>
        <p:spPr>
          <a:xfrm>
            <a:off x="2571840" y="3357720"/>
            <a:ext cx="318924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28400" y="642600"/>
            <a:ext cx="8715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Velocity &amp; Acceleration Laboratory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duguide – Velocity &amp; Acceleration Laborator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9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67-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293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2" descr=""/>
          <p:cNvPicPr/>
          <p:nvPr/>
        </p:nvPicPr>
        <p:blipFill>
          <a:blip r:embed="rId2"/>
          <a:stretch/>
        </p:blipFill>
        <p:spPr>
          <a:xfrm>
            <a:off x="2214720" y="1390680"/>
            <a:ext cx="4019400" cy="546732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Student Activity pg70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Thinking Things Through pg71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98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299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2"/>
          <a:stretch/>
        </p:blipFill>
        <p:spPr>
          <a:xfrm>
            <a:off x="500040" y="1714680"/>
            <a:ext cx="700416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Angular Motion 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pic>
        <p:nvPicPr>
          <p:cNvPr id="302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303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1-7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6" descr=""/>
          <p:cNvPicPr/>
          <p:nvPr/>
        </p:nvPicPr>
        <p:blipFill>
          <a:blip r:embed="rId2"/>
          <a:stretch/>
        </p:blipFill>
        <p:spPr>
          <a:xfrm>
            <a:off x="2500200" y="2571840"/>
            <a:ext cx="2500560" cy="394812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6"/>
          <p:cNvSpPr/>
          <p:nvPr/>
        </p:nvSpPr>
        <p:spPr>
          <a:xfrm>
            <a:off x="2286000" y="6143760"/>
            <a:ext cx="928800" cy="5000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2" descr=""/>
          <p:cNvPicPr/>
          <p:nvPr/>
        </p:nvPicPr>
        <p:blipFill>
          <a:blip r:embed="rId3"/>
          <a:stretch/>
        </p:blipFill>
        <p:spPr>
          <a:xfrm>
            <a:off x="642960" y="3143160"/>
            <a:ext cx="1917720" cy="27003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3" descr=""/>
          <p:cNvPicPr/>
          <p:nvPr/>
        </p:nvPicPr>
        <p:blipFill>
          <a:blip r:embed="rId4"/>
          <a:stretch/>
        </p:blipFill>
        <p:spPr>
          <a:xfrm>
            <a:off x="5072040" y="2635200"/>
            <a:ext cx="1785960" cy="42228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3004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ngular Motion is movement of a body part around an axis of rotation (real or imaginary).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e4e99"/>
                </a:solidFill>
                <a:latin typeface="Georgia"/>
              </a:rPr>
              <a:t>Read pg:71-72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Angular Motion 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Angular motion is caused by a force acting outside the centre of gravity – this is known as an eccentric force and results in rotation known as torque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Torque is the tendency of an object to rotate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Moment of force = force x lever ar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The greater the torque, the greater the rotation/angular acceleration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11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312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1-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379bb"/>
                </a:solidFill>
                <a:latin typeface="Trebuchet MS"/>
              </a:rPr>
              <a:t>Key Knowledge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300"/>
              </a:spcBef>
              <a:buClr>
                <a:srgbClr val="6bb1c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Calibri"/>
              </a:rPr>
              <a:t>Linear motion occurring in sport and physical activities from the perspective of acceleration and deceleration and both velocity and distance/displacemen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 algn="just">
              <a:lnSpc>
                <a:spcPct val="115000"/>
              </a:lnSpc>
              <a:spcBef>
                <a:spcPts val="300"/>
              </a:spcBef>
              <a:buClr>
                <a:srgbClr val="6bb1c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Calibri"/>
              </a:rPr>
              <a:t>Angular motion occurring in sport and physical activities by considering torque, angular velocity, momentum and moment of inertia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6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227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Torque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Angular motion is caused by a force acting outside the centre of gravity – this is known as an eccentric force and results in rotation known as torque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orque is the tendency of an object to rotate, and causes that object to rotate around the axi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Torque is sometimes referred to as moment of force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Moment of force = force x lever ar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15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316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2-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3" descr=""/>
          <p:cNvPicPr/>
          <p:nvPr/>
        </p:nvPicPr>
        <p:blipFill>
          <a:blip r:embed="rId1"/>
          <a:stretch/>
        </p:blipFill>
        <p:spPr>
          <a:xfrm>
            <a:off x="3214800" y="2166840"/>
            <a:ext cx="4143240" cy="46911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The greater the torque, the greater the rotation/angular acceleration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e4e99"/>
                </a:solidFill>
                <a:latin typeface="Georgia"/>
              </a:rPr>
              <a:t>Read pg:72-73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just">
              <a:spcBef>
                <a:spcPts val="300"/>
              </a:spcBef>
              <a:buClr>
                <a:srgbClr val="6bb1c9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bb1c9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Torque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20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2-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8"/>
          <p:cNvSpPr/>
          <p:nvPr/>
        </p:nvSpPr>
        <p:spPr>
          <a:xfrm rot="5400000">
            <a:off x="3857040" y="6429240"/>
            <a:ext cx="642960" cy="2142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9"/>
          <p:cNvSpPr/>
          <p:nvPr/>
        </p:nvSpPr>
        <p:spPr>
          <a:xfrm>
            <a:off x="5357880" y="3214800"/>
            <a:ext cx="1857240" cy="8571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3" descr=""/>
          <p:cNvPicPr/>
          <p:nvPr/>
        </p:nvPicPr>
        <p:blipFill>
          <a:blip r:embed="rId2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2" descr=""/>
          <p:cNvPicPr/>
          <p:nvPr/>
        </p:nvPicPr>
        <p:blipFill>
          <a:blip r:embed="rId3"/>
          <a:stretch/>
        </p:blipFill>
        <p:spPr>
          <a:xfrm>
            <a:off x="785880" y="3357720"/>
            <a:ext cx="2365200" cy="12855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3" descr=""/>
          <p:cNvPicPr/>
          <p:nvPr/>
        </p:nvPicPr>
        <p:blipFill>
          <a:blip r:embed="rId4"/>
          <a:stretch/>
        </p:blipFill>
        <p:spPr>
          <a:xfrm>
            <a:off x="714240" y="4714920"/>
            <a:ext cx="260064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6" descr=""/>
          <p:cNvPicPr/>
          <p:nvPr/>
        </p:nvPicPr>
        <p:blipFill>
          <a:blip r:embed="rId1"/>
          <a:stretch/>
        </p:blipFill>
        <p:spPr>
          <a:xfrm>
            <a:off x="642960" y="4282920"/>
            <a:ext cx="6786720" cy="257508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Torque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Torque is affected by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just">
              <a:spcBef>
                <a:spcPts val="300"/>
              </a:spcBef>
              <a:buClr>
                <a:srgbClr val="7d4d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Georgia"/>
              </a:rPr>
              <a:t>Length of level arm</a:t>
            </a:r>
            <a:endParaRPr b="0" lang="en-US" sz="2200" spc="-1" strike="noStrike">
              <a:solidFill>
                <a:srgbClr val="7d4d99"/>
              </a:solidFill>
              <a:latin typeface="Georgia"/>
            </a:endParaRPr>
          </a:p>
          <a:p>
            <a:pPr lvl="1" marL="657360" indent="-246240" algn="just">
              <a:spcBef>
                <a:spcPts val="300"/>
              </a:spcBef>
              <a:buClr>
                <a:srgbClr val="7d4d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Georgia"/>
              </a:rPr>
              <a:t>Amount of force applied</a:t>
            </a:r>
            <a:endParaRPr b="0" lang="en-US" sz="2200" spc="-1" strike="noStrike">
              <a:solidFill>
                <a:srgbClr val="7d4d99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Spin is a classic example of torque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The bigger the lever arm and the greater the applied force – the greater the amount of spin of an object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29" name="Picture 3" descr=""/>
          <p:cNvPicPr/>
          <p:nvPr/>
        </p:nvPicPr>
        <p:blipFill>
          <a:blip r:embed="rId2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330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2-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6"/>
          <p:cNvSpPr/>
          <p:nvPr/>
        </p:nvSpPr>
        <p:spPr>
          <a:xfrm>
            <a:off x="6786720" y="6643800"/>
            <a:ext cx="642960" cy="2142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5429160" y="6715080"/>
            <a:ext cx="1428840" cy="14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6" descr=""/>
          <p:cNvPicPr/>
          <p:nvPr/>
        </p:nvPicPr>
        <p:blipFill>
          <a:blip r:embed="rId1"/>
          <a:stretch/>
        </p:blipFill>
        <p:spPr>
          <a:xfrm>
            <a:off x="428760" y="1714680"/>
            <a:ext cx="7381800" cy="299052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Student Activity pg74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pic>
        <p:nvPicPr>
          <p:cNvPr id="335" name="Picture 3" descr=""/>
          <p:cNvPicPr/>
          <p:nvPr/>
        </p:nvPicPr>
        <p:blipFill>
          <a:blip r:embed="rId2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336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Angular Distance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Angular distance = the angular distance covered by a rotating body, e.g. a gymnast doing two full rotations on the high bar would cover 360°</a:t>
            </a:r>
            <a:r>
              <a:rPr b="0" lang="en-AU" sz="2000" spc="-1" strike="noStrike">
                <a:solidFill>
                  <a:srgbClr val="000000"/>
                </a:solidFill>
                <a:latin typeface="Georgia"/>
              </a:rPr>
              <a:t> x 2 = 720</a:t>
            </a: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39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340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4-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7" descr=""/>
          <p:cNvPicPr/>
          <p:nvPr/>
        </p:nvPicPr>
        <p:blipFill>
          <a:blip r:embed="rId2"/>
          <a:stretch/>
        </p:blipFill>
        <p:spPr>
          <a:xfrm>
            <a:off x="2571840" y="3571920"/>
            <a:ext cx="314316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Angular Displacement 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Angular displacement = the change between the initial and final position of a rotating object, e.g. a gymnast doing a one and a half rotation on the high bar would displace only 180° even though they have covered 360° + 180° = 540°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4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345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4-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2" descr=""/>
          <p:cNvPicPr/>
          <p:nvPr/>
        </p:nvPicPr>
        <p:blipFill>
          <a:blip r:embed="rId2"/>
          <a:stretch/>
        </p:blipFill>
        <p:spPr>
          <a:xfrm>
            <a:off x="2643120" y="3819600"/>
            <a:ext cx="277200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Angular Speed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Angular speed = angular distance covered ÷ time taken to complete rotation, e.g. a gymnast doing two full rotations in 2 seconds on the high bar would cover 360</a:t>
            </a:r>
            <a:r>
              <a:rPr b="0" lang="en-AU" sz="2000" spc="-1" strike="noStrike">
                <a:solidFill>
                  <a:srgbClr val="000000"/>
                </a:solidFill>
                <a:latin typeface="Georgia"/>
              </a:rPr>
              <a:t>º </a:t>
            </a: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x 2 = 720º ÷ 2 = 360º / secon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9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350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5-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Angular Velocity 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Angular velocity = the rate of change of angular displacement, e.g. a gymnast doing a one and a half rotation in 1 second on the high bar would displace only 180º ÷ 1 = 180º / secon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3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354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5-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Angular Acceleration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Angular acceleration = the rate of change of angular velocity or the rate of change in angular velocity – this can be positive or negative (deceleration)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e4e99"/>
                </a:solidFill>
                <a:latin typeface="Georgia"/>
              </a:rPr>
              <a:t>Read pg:75-76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7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358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Thinking Things Through pg76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1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362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6" descr=""/>
          <p:cNvPicPr/>
          <p:nvPr/>
        </p:nvPicPr>
        <p:blipFill>
          <a:blip r:embed="rId2"/>
          <a:stretch/>
        </p:blipFill>
        <p:spPr>
          <a:xfrm>
            <a:off x="500040" y="1785960"/>
            <a:ext cx="692964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379bb"/>
                </a:solidFill>
                <a:latin typeface="Trebuchet MS"/>
              </a:rPr>
              <a:t>Key Skills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300"/>
              </a:spcBef>
              <a:buClr>
                <a:srgbClr val="6bb1c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Calibri"/>
              </a:rPr>
              <a:t>Correct use of terms that explain how biomechanical principles apply to a range of sporting movement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 algn="just">
              <a:lnSpc>
                <a:spcPct val="115000"/>
              </a:lnSpc>
              <a:spcBef>
                <a:spcPts val="300"/>
              </a:spcBef>
              <a:buClr>
                <a:srgbClr val="6bb1c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Calibri"/>
              </a:rPr>
              <a:t>Investigate and interpret graphs of biomechanical principles pertaining to movements in sports and activiti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 algn="just">
              <a:lnSpc>
                <a:spcPct val="115000"/>
              </a:lnSpc>
              <a:spcBef>
                <a:spcPts val="300"/>
              </a:spcBef>
              <a:buClr>
                <a:srgbClr val="6bb1c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Calibri"/>
              </a:rPr>
              <a:t>Participate in, analyse and report on a range of biomechanical activiti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 algn="just">
              <a:lnSpc>
                <a:spcPct val="115000"/>
              </a:lnSpc>
              <a:spcBef>
                <a:spcPts val="300"/>
              </a:spcBef>
              <a:buClr>
                <a:srgbClr val="6bb1c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Calibri"/>
              </a:rPr>
              <a:t>Evaluate the efficiency of various movements by applying biomechanical principl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 algn="just">
              <a:lnSpc>
                <a:spcPct val="115000"/>
              </a:lnSpc>
              <a:spcBef>
                <a:spcPts val="300"/>
              </a:spcBef>
              <a:buClr>
                <a:srgbClr val="6bb1c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Calibri"/>
              </a:rPr>
              <a:t>Compare and contrast a variety of sports movements and discuss the correct way biomechanical principles can be used to bring about improvements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0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231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379bb"/>
                </a:solidFill>
                <a:latin typeface="Trebuchet MS"/>
              </a:rPr>
              <a:t>Biomechanical Principles of Motion Extension 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Review Questions pg78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duguide Structured Questions - Mot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6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367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371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Biomechanics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Biomechanics is the study of living things from a mechanical perspective and is essentially the physics behind human movemen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It is the science of human movement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It is the study of how and why the human body move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It is essential to assist in producing the best possible performance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235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Role of a Biomechanist 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Analyse performance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Optimise techniqu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Improve  equipment desig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Prevent injuri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8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239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Quantitative &amp; Qualitative 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Quantitative –numerical measurements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Qualitative – descriptive information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These 2 measures assist in determining problems in technique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Qualitative is the most commonly used as most coaching situations use observation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Information can be gathered in the field, competition, or lab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243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Equipment use in Biomechanics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Some equipment includes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Video analysis – which include split screens, drawing tools, screen overlays and image overlays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In shoe pressure sensors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Force platforms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Electromyography (measures electrical activity in muscles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Electrogoniography (measure of joint angle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Accelerometers (measures acceleration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247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"/>
          <p:cNvPicPr/>
          <p:nvPr/>
        </p:nvPicPr>
        <p:blipFill>
          <a:blip r:embed="rId2"/>
          <a:stretch/>
        </p:blipFill>
        <p:spPr>
          <a:xfrm>
            <a:off x="500040" y="1857240"/>
            <a:ext cx="7091280" cy="185760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Thinking Things Through pg65 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General Motion 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General motion involves translation and rotation at the same time. ie: Linear motion and Angular motion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500040" y="3286080"/>
            <a:ext cx="7072200" cy="25099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"/>
          <p:cNvPicPr/>
          <p:nvPr/>
        </p:nvPicPr>
        <p:blipFill>
          <a:blip r:embed="rId2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08:46:05Z</dcterms:created>
  <dc:creator>pas</dc:creator>
  <dc:description/>
  <dc:language>en-US</dc:language>
  <cp:lastModifiedBy>pas</cp:lastModifiedBy>
  <dcterms:modified xsi:type="dcterms:W3CDTF">2011-01-27T04:07:53Z</dcterms:modified>
  <cp:revision>153</cp:revision>
  <dc:subject/>
  <dc:title>Biomechanical Principles of Motion</dc:title>
</cp:coreProperties>
</file>