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EB0A-A6F2-44E4-BF04-126BFADB149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24F2-840A-41DC-8CC4-7F60D5F6A88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0DA7-C23A-479C-9A45-FAB449B27D4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7F9B-0E2A-4D3B-B736-3BC6EC00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8AE9-2F5C-4DFD-90A0-FF653F99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AE77-1E1C-4973-A389-92E51BD5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BCA0-BD3E-455E-AD83-1C4BF5A4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B7CE-5C06-47E8-ACA4-607CCD9C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D903-A3E2-41D8-82AB-51912B78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BAC9-09BE-4455-90EE-0CF582CC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5B93-06DE-4739-9749-57F32168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3977-0683-4F05-8E77-D652072E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53FD-B606-478E-A9E8-3E9D3BC9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71C7-F876-49E0-911A-FC55A3A7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A50F-5086-4D20-82DD-9B842BDE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EB90-E109-490B-AD5C-2BCE43CE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E37C-0423-4846-9AEB-72BEAAF2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677F-2CC5-41D9-8BD3-86B9617F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07AD-67F0-41D9-A1A4-04A90FC5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26F0-BB5B-4AA0-819A-B919F9E4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954F9F-9136-494E-9A6B-E0043E8A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FE8A60-9DA6-415E-B0B6-4AA6AA6F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05D905-60D6-48BA-8A84-4DFF986B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B30E4D-A1B2-4555-A909-D96A5FE9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ED22FC-037D-4369-B043-4C40CD29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D4B0-2FA3-49FE-9BE3-F44DFC77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88A295-378C-4658-AC63-1F751E50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DAC7C1-5E89-4C26-87AE-4B86990E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6F01B-F647-4A5F-B9A8-134F93A7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86923C-9375-46D1-B1B4-77E3CDF2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715B6-9EF4-4FB5-9CD1-ABF535F1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DE0178-1501-4C52-A9F0-39A1AC0D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97B65C-C89E-4601-B58B-093BED2C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96C1A-9C02-4BBC-843C-7D351B75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2615A-303C-4C09-BFC0-E7EEC9C3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1EA16-9A5C-4ABB-B625-4A995F68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8FD2-49E5-431A-80CA-6EF740E4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A71DD-2CD4-49EE-9F62-AC36B3D9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119C9-594C-4D71-9FA0-0B0A1BA8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263B6-575A-4FB2-80AF-836055FF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5FD70-A325-4298-AB0A-8CCA1994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69A74-2201-44D9-AA7C-D7395003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60B88-221D-4DAF-92D0-A6EE450E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655A6-B5FF-413D-924D-3EC5087E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6A629-3E46-4CEA-93D2-DE51D134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5EB8A-FD52-44E2-8BE3-CFC3F484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B240-CEC4-4845-83EC-01E61E87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81E-F6E4-49AD-B544-C911E586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4BC5-7419-4847-8122-8046BEBB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B430-300B-48AA-A941-6D1D1903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A8D2-E1CB-4AFA-B299-F65C8A7B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d4d9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6bb1c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d4d9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d4d9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82B9-DB4E-46C4-B852-7A3F1D85E4D5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7d4d9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7d4d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7d4d9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d4d9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6bb1c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d4d9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d4d9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E655-95A1-4ED6-AFCC-8C9F4AF6C51D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d4d9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6bb1c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d4d9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d4d9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2E41-9E1C-49BA-9E26-18335E84A663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a379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7d4d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7d4d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7d4d9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ece4f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6bb1c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d4d9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d4d9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17C4-9A31-40E6-97D5-AC0F7B7B5742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401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Biomechanical Principles of Motion</a:t>
            </a:r>
            <a:endParaRPr b="0" lang="en-US" sz="44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3900600"/>
            <a:ext cx="5614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379bb"/>
                </a:solidFill>
                <a:latin typeface="Georgia"/>
              </a:rPr>
              <a:t>Unit 1: Bodies in Mo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379bb"/>
                </a:solidFill>
                <a:latin typeface="Georgia"/>
              </a:rPr>
              <a:t>AOS2: Biomechanical Movement Princip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7997760" y="4078440"/>
            <a:ext cx="11527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7" descr=""/>
          <p:cNvPicPr/>
          <p:nvPr/>
        </p:nvPicPr>
        <p:blipFill>
          <a:blip r:embed="rId1"/>
          <a:stretch/>
        </p:blipFill>
        <p:spPr>
          <a:xfrm>
            <a:off x="1357200" y="2928960"/>
            <a:ext cx="5162760" cy="16430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inear Motion is movement of the body where all parts move in the same direction at the same time along a lin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Linear Motion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"/>
          <p:cNvPicPr/>
          <p:nvPr/>
        </p:nvPicPr>
        <p:blipFill>
          <a:blip r:embed="rId3"/>
          <a:stretch/>
        </p:blipFill>
        <p:spPr>
          <a:xfrm>
            <a:off x="1500120" y="5054760"/>
            <a:ext cx="4714920" cy="18032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8"/>
          <p:cNvSpPr/>
          <p:nvPr/>
        </p:nvSpPr>
        <p:spPr>
          <a:xfrm>
            <a:off x="1500120" y="4357800"/>
            <a:ext cx="46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i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9"/>
          <p:cNvSpPr/>
          <p:nvPr/>
        </p:nvSpPr>
        <p:spPr>
          <a:xfrm>
            <a:off x="1500120" y="6286680"/>
            <a:ext cx="46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ili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Distance &amp; Displacement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Displacement is defined as a change in posi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Distance is the path travelled from start to finish, regardless of direction.   </a:t>
            </a:r>
            <a:r>
              <a:rPr b="0" lang="en-AU" sz="2400" spc="-1" strike="noStrike">
                <a:solidFill>
                  <a:srgbClr val="7e4e99"/>
                </a:solidFill>
                <a:latin typeface="Georgia"/>
              </a:rPr>
              <a:t>Read pg: 67-68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7-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2"/>
          <a:srcRect l="0" t="0" r="0" b="13388"/>
          <a:stretch/>
        </p:blipFill>
        <p:spPr>
          <a:xfrm>
            <a:off x="642960" y="3121200"/>
            <a:ext cx="6748560" cy="37368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7"/>
          <p:cNvSpPr/>
          <p:nvPr/>
        </p:nvSpPr>
        <p:spPr>
          <a:xfrm>
            <a:off x="4286160" y="6715080"/>
            <a:ext cx="1285920" cy="14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Speed &amp; Velocity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peed can be calculated by dividing the distance travelled by the time it too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Velocity is equal to the time it takes to change posi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Both are expressed as metres per second or m/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2928960" y="2786040"/>
            <a:ext cx="2286000" cy="5428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2571840" y="4286160"/>
            <a:ext cx="30290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rcRect l="0" t="0" r="0" b="2685"/>
          <a:stretch/>
        </p:blipFill>
        <p:spPr>
          <a:xfrm>
            <a:off x="1857240" y="4143240"/>
            <a:ext cx="5321520" cy="27147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Speed &amp; Velocity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t’s important to remember that velocity deals with direc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 change in velocity could be a change in speed, a change in direction or both. A tennis ball hit at 30 m/s over the net and then returned at 30 m/s over the net has still changed velocity because it has changed directio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81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cceleration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cceleration  is the change in velocity over a period of time and when positive an object is speeding up and when negative it is slowing dow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omething with zero acceleration is simply not changing its velocity and could be moving at a constant velocity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cceleration is expressed as</a:t>
            </a:r>
            <a:r>
              <a:rPr b="1" lang="en-A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m/s</a:t>
            </a:r>
            <a:r>
              <a:rPr b="1" lang="en-AU" sz="2000" spc="-1" strike="noStrike">
                <a:solidFill>
                  <a:srgbClr val="000000"/>
                </a:solidFill>
                <a:latin typeface="Georgia"/>
              </a:rPr>
              <a:t>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2"/>
          <a:stretch/>
        </p:blipFill>
        <p:spPr>
          <a:xfrm>
            <a:off x="2571840" y="3357720"/>
            <a:ext cx="318924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400" y="642600"/>
            <a:ext cx="8715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Velocity &amp; Acceleration Laboratory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duguide – Velocity &amp; Acceleration Laborator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7-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93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2214720" y="1390680"/>
            <a:ext cx="4019400" cy="546732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Student Activity pg70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hinking Things Through pg71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99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70041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Motion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-7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"/>
          <p:cNvPicPr/>
          <p:nvPr/>
        </p:nvPicPr>
        <p:blipFill>
          <a:blip r:embed="rId2"/>
          <a:stretch/>
        </p:blipFill>
        <p:spPr>
          <a:xfrm>
            <a:off x="2500200" y="2571840"/>
            <a:ext cx="2500560" cy="394812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6"/>
          <p:cNvSpPr/>
          <p:nvPr/>
        </p:nvSpPr>
        <p:spPr>
          <a:xfrm>
            <a:off x="2286000" y="6143760"/>
            <a:ext cx="92880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3"/>
          <a:stretch/>
        </p:blipFill>
        <p:spPr>
          <a:xfrm>
            <a:off x="642960" y="3143160"/>
            <a:ext cx="1917720" cy="27003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"/>
          <p:cNvPicPr/>
          <p:nvPr/>
        </p:nvPicPr>
        <p:blipFill>
          <a:blip r:embed="rId4"/>
          <a:stretch/>
        </p:blipFill>
        <p:spPr>
          <a:xfrm>
            <a:off x="5072040" y="2635200"/>
            <a:ext cx="1785960" cy="4222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gular Motion is movement of a body part around an axis of rotation (real or imaginary).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28320" indent="-23004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4e99"/>
                </a:solidFill>
                <a:latin typeface="Georgia"/>
              </a:rPr>
              <a:t>Read pg:71-72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Motion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motion is caused by a force acting outside the centre of gravity – this is known as an eccentric force and results in rotation known as torqu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orque is the tendency of an object to rotat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Moment of force = force x lever ar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he greater the torque, the greater the rotation/angular accelera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Key Knowledg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Linear motion occurring in sport and physical activities from the perspective of acceleration and deceleration and both velocity and distance/displacemen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Angular motion occurring in sport and physical activities by considering torque, angular velocity, momentum and moment of inertia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orqu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motion is caused by a force acting outside the centre of gravity – this is known as an eccentric force and results in rotation known as torqu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orque is the tendency of an object to rotate, and causes that object to rotate around the axi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orque is sometimes referred to as moment of forc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Moment of force = force x lever ar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16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2-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3214800" y="2166840"/>
            <a:ext cx="4143240" cy="4691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he greater the torque, the greater the rotation/angular accelera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e4e99"/>
                </a:solidFill>
                <a:latin typeface="Georgia"/>
              </a:rPr>
              <a:t>Read pg:72-73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just">
              <a:spcBef>
                <a:spcPts val="300"/>
              </a:spcBef>
              <a:buClr>
                <a:srgbClr val="6bb1c9"/>
              </a:buClr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bb1c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orqu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20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2-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 rot="5400000">
            <a:off x="3857040" y="6429240"/>
            <a:ext cx="642960" cy="21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5357880" y="3214800"/>
            <a:ext cx="1857240" cy="857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2" descr=""/>
          <p:cNvPicPr/>
          <p:nvPr/>
        </p:nvPicPr>
        <p:blipFill>
          <a:blip r:embed="rId3"/>
          <a:stretch/>
        </p:blipFill>
        <p:spPr>
          <a:xfrm>
            <a:off x="785880" y="3357720"/>
            <a:ext cx="2365200" cy="12855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3" descr=""/>
          <p:cNvPicPr/>
          <p:nvPr/>
        </p:nvPicPr>
        <p:blipFill>
          <a:blip r:embed="rId4"/>
          <a:stretch/>
        </p:blipFill>
        <p:spPr>
          <a:xfrm>
            <a:off x="714240" y="4714920"/>
            <a:ext cx="26006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642960" y="4282920"/>
            <a:ext cx="6786720" cy="257508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orqu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orque is affected b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7d4d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Georgia"/>
              </a:rPr>
              <a:t>Length of level arm</a:t>
            </a:r>
            <a:endParaRPr b="0" lang="en-US" sz="2200" spc="-1" strike="noStrike">
              <a:solidFill>
                <a:srgbClr val="7d4d99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7d4d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Georgia"/>
              </a:rPr>
              <a:t>Amount of force applied</a:t>
            </a:r>
            <a:endParaRPr b="0" lang="en-US" sz="2200" spc="-1" strike="noStrike">
              <a:solidFill>
                <a:srgbClr val="7d4d99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pin is a classic example of torqu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he bigger the lever arm and the greater the applied force – the greater the amount of spin of an objec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30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2-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6786720" y="6643800"/>
            <a:ext cx="642960" cy="21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5429160" y="6715080"/>
            <a:ext cx="1428840" cy="14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6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7381800" cy="299052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Student Activity pg74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36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Distance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distance = the angular distance covered by a rotating body, e.g. a gymnast doing two full rotations on the high bar would cover 360°</a:t>
            </a:r>
            <a:r>
              <a:rPr b="0" lang="en-AU" sz="2000" spc="-1" strike="noStrike">
                <a:solidFill>
                  <a:srgbClr val="000000"/>
                </a:solidFill>
                <a:latin typeface="Georgia"/>
              </a:rPr>
              <a:t> x 2 = 720</a:t>
            </a: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40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4-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"/>
          <p:cNvPicPr/>
          <p:nvPr/>
        </p:nvPicPr>
        <p:blipFill>
          <a:blip r:embed="rId2"/>
          <a:stretch/>
        </p:blipFill>
        <p:spPr>
          <a:xfrm>
            <a:off x="2571840" y="3571920"/>
            <a:ext cx="314316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Displacement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displacement = the change between the initial and final position of a rotating object, e.g. a gymnast doing a one and a half rotation on the high bar would displace only 180° even though they have covered 360° + 180° = 540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45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4-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2"/>
          <a:stretch/>
        </p:blipFill>
        <p:spPr>
          <a:xfrm>
            <a:off x="2643120" y="3819600"/>
            <a:ext cx="2772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Speed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speed = angular distance covered ÷ time taken to complete rotation, e.g. a gymnast doing two full rotations in 2 seconds on the high bar would cover 360</a:t>
            </a:r>
            <a:r>
              <a:rPr b="0" lang="en-AU" sz="2000" spc="-1" strike="noStrike">
                <a:solidFill>
                  <a:srgbClr val="000000"/>
                </a:solidFill>
                <a:latin typeface="Georgia"/>
              </a:rPr>
              <a:t>º </a:t>
            </a: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x 2 = 720º ÷ 2 = 360º / seco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50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5-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Velocity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velocity = the rate of change of angular displacement, e.g. a gymnast doing a one and a half rotation in 1 second on the high bar would displace only 180º ÷ 1 = 180º / seco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54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5-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Angular Acceleration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gular acceleration = the rate of change of angular velocity or the rate of change in angular velocity – this can be positive or negative (deceleration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e4e99"/>
                </a:solidFill>
                <a:latin typeface="Georgia"/>
              </a:rPr>
              <a:t>Read pg:75-76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58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hinking Things Through pg76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62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6" descr=""/>
          <p:cNvPicPr/>
          <p:nvPr/>
        </p:nvPicPr>
        <p:blipFill>
          <a:blip r:embed="rId2"/>
          <a:stretch/>
        </p:blipFill>
        <p:spPr>
          <a:xfrm>
            <a:off x="500040" y="1785960"/>
            <a:ext cx="69296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Key Skills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Correct use of terms that explain how biomechanical principles apply to a range of sporting moveme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Investigate and interpret graphs of biomechanical principles pertaining to movements in sports and activit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Participate in, analyse and report on a range of biomechanical activit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Evaluate the efficiency of various movements by applying biomechanical princip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6bb1c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Compare and contrast a variety of sports movements and discuss the correct way biomechanical principles can be used to bring about improvement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379bb"/>
                </a:solidFill>
                <a:latin typeface="Trebuchet MS"/>
              </a:rPr>
              <a:t>Biomechanical Principles of Motion Extension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view Questions pg7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duguide Structured Questions - Mo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66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67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371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Biomechanics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Biomechanics is the study of living things from a mechanical perspective and is essentially the physics behind human move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t is the science of human movemen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t is the study of how and why the human body mov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t is essential to assist in producing the best possible performanc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35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Role of a Biomechanist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alyse performance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Optimise techniqu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mprove  equipment desig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Prevent inju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Quantitative &amp; Qualitative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Quantitative –numerical measurement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Qualitative – descriptive informa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hese 2 measures assist in determining problems in technique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Qualitative is the most commonly used as most coaching situations use observa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nformation can be gathered in the field, competition, or lab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Equipment use in Biomechanics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ome equipment include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Video analysis – which include split screens, drawing tools, screen overlays and image overlay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In shoe pressure sensor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Force platform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Electromyography (measures electrical activity in muscl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Electrogoniography (measure of joint angle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ccelerometers (measures acceleration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sp>
        <p:nvSpPr>
          <p:cNvPr id="247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2"/>
          <a:stretch/>
        </p:blipFill>
        <p:spPr>
          <a:xfrm>
            <a:off x="500040" y="1857240"/>
            <a:ext cx="7091280" cy="18576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Thinking Things Through pg65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379bb"/>
                </a:solidFill>
                <a:latin typeface="Trebuchet MS"/>
              </a:rPr>
              <a:t>General Motion </a:t>
            </a:r>
            <a:endParaRPr b="0" lang="en-US" sz="4000" spc="-1" strike="noStrike">
              <a:solidFill>
                <a:srgbClr val="a379bb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785960"/>
            <a:ext cx="71150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6bb1c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eneral motion involves translation and rotation at the same time. ie: Linear motion and Angular motion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7715160" y="65008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3466"/>
                </a:solidFill>
                <a:latin typeface="Georgia"/>
              </a:rPr>
              <a:t>pg: 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500040" y="3286080"/>
            <a:ext cx="7072200" cy="2509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2"/>
          <a:stretch/>
        </p:blipFill>
        <p:spPr>
          <a:xfrm>
            <a:off x="7370640" y="2279520"/>
            <a:ext cx="177984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08:46:05Z</dcterms:created>
  <dc:creator>pas</dc:creator>
  <dc:description/>
  <dc:language>en-US</dc:language>
  <cp:lastModifiedBy>pas</cp:lastModifiedBy>
  <dcterms:modified xsi:type="dcterms:W3CDTF">2011-01-27T04:07:53Z</dcterms:modified>
  <cp:revision>153</cp:revision>
  <dc:subject/>
  <dc:title>Biomechanical Principles of Motion</dc:title>
</cp:coreProperties>
</file>