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B03-0246-4153-B94B-6D6B6F1B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0E8-928C-4EC9-B0E0-5D38E3A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1F0-7C8E-4494-807B-8853933A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DA1-DE38-4B50-8FD8-33376496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FF43-7596-42B5-B54C-5EF37550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5FFC-E583-437C-B1FE-F5807A8B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BB36-0887-406E-B033-4BC2C845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77B1-D10D-495A-B798-5C0B87FB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3EF6-DC00-40B9-BF5F-4D895165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5FBF-2710-40FC-8D9F-781AC91A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2A44-E4D9-4EFD-B217-07D2215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1B6-D7EC-49F0-8238-A3DF44F4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F15E-F4E2-40A6-8279-0036B096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E9A-3A74-49F3-8525-7CDB052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BED0-007A-4AEC-861B-D4E7F541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4E8E-BDBB-4C89-821B-4715C918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31BD-CF94-4B3F-89DF-944E3A10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F2E6A-62CA-4FB0-82F3-630F893E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050A8-8618-4E6F-8386-4E859595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1E17B-5C47-45E5-8E32-2E50956E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D7EE5-3F02-4E6F-8D4F-7D8C107C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D275D-4A7D-49B1-AFBA-CF1133AB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898-D12E-4F25-8F0D-80DE808F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7F223-4D21-4C9E-AF94-946F2673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E651C-828B-49D6-A70E-5035686C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D610C-14DA-439B-8108-F444361E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273AA-50DD-4BAB-993E-F528828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A434D-19DB-4AC5-A666-E1F7C6D9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DB04F-7012-45DC-93E3-362BDCA6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C499D-055D-4E48-BADE-3D7A11ED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BBAB-7B13-4037-9543-D2FA542B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AB7E-61ED-40D4-BD48-FF22C9EF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6739-41AC-4841-B803-2F8ADD04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801-07C1-41B6-AD1A-D6930D3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B295-AFE9-45B9-AD3F-F5B2A83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33FF-CE0B-414D-9AF5-08479CA9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FEA9-CD55-4DD1-938A-83DCB3DC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5598-D20B-4272-BAFE-40C8884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B318-E64F-4DE3-A612-B511DDD1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1B52-CEC0-488C-AB1A-6244219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20B9-F712-4D41-BA6A-31F377C8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9469-4F16-4BBB-908C-8E1123C9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BB2F-87B6-413C-806C-90ECB627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3FC-44F0-4420-A05B-B0742C3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B2E-1238-49D1-ADF7-4A2B27C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FBA-E256-44EB-833F-E1A270DF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216-01B6-4629-BCB8-70E511D9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91D-F899-4481-A702-7AD68873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9E8F-0707-4E07-A338-7BEBDC8C594C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AA86-86C0-4493-A500-A060523AA467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9505-DA00-4BC2-89E9-649C44C5EAA4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E6E0-5FB0-4961-BCC0-3D549FE3D6C2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920" y="240156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Equilibrium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a55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have three main par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axis (fulcrum or pivot poin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resistance (weight or load to be moved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force (effor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s pulling on bones count as leve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5167440" y="3786120"/>
            <a:ext cx="397656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4714560" cy="30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 Classification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7143840" y="5716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1357200" y="1389240"/>
            <a:ext cx="5572080" cy="54687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5000760" y="6715080"/>
            <a:ext cx="19285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irst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and force are on either side of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7643880" y="571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357200" y="2357280"/>
            <a:ext cx="5857920" cy="40878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1071720" y="6072120"/>
            <a:ext cx="321444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econd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occurs between the force a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7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643040" y="2286000"/>
            <a:ext cx="47149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rd Class Lever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between the resistance and the ax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4906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11280" y="1052640"/>
            <a:ext cx="82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re used to provide a </a:t>
            </a: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= force arm ÷ resistance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ost levers in the human body are third-clas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nd have a mechanical advantage less than 1, which suits them to increased ranges of mo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743040" y="3284640"/>
            <a:ext cx="8045280" cy="3313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694440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45c75"/>
                </a:solidFill>
                <a:latin typeface="Arial"/>
              </a:rPr>
              <a:t>© Cengage Learning Australia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are used to provide a mechanical advanta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echanical advantage = force arm ÷ resistance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st levers in the human body are third-class levers and have a mechanical advantage less than 1, which suits them to increased ranges of motion and spe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9-1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9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714240" y="4357800"/>
            <a:ext cx="3884760" cy="2071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5072040" y="5643720"/>
            <a:ext cx="2143080" cy="7887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3643200" y="6215040"/>
            <a:ext cx="114300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: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421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tudent Activity pg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Practical Activity Lev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7000920" cy="4005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Biomechanical Principles of Equilibrium – Extension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Balance &amp; Stability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Lev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Student Activity pg125 – Investigating Stabilit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Arial"/>
                <a:ea typeface="Arial"/>
              </a:rPr>
              <a:t>Key Knowledg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The different parts that make up levers including the axis, force and resistance arms and how they relate to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How do centre of gravity, base of support, line of gravity and mass affect the balance and stability of objects and sportspeopl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Key Skill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xplain the application of key biomechanical principles to a range of sporting movements  by using correct ter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practical activities that consider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Use biomechanical principles to critique the effectiveness of different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alyse different sporting actions to identify similarities and differences  as well as the correct application of biomechanical principles to improve performan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42960" y="4429080"/>
            <a:ext cx="6737400" cy="2428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760" y="185724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rotary effect caused by the application of an eccentric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lever arm is the perpendicular distance from the axis of rotation to the force’s line of 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1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3"/>
          <a:stretch/>
        </p:blipFill>
        <p:spPr>
          <a:xfrm>
            <a:off x="3286080" y="3571920"/>
            <a:ext cx="4497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orce Couple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ts val="1998"/>
              </a:lnSpc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imes more than one force acts on a bod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When forces acting on a body are equal but applied in opposite directions they create a force cou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couples produce torque and the object will rotate about its axis of rotation. </a:t>
            </a:r>
            <a:r>
              <a:rPr b="0" lang="en-AU" sz="2400" spc="-1" strike="noStrike">
                <a:solidFill>
                  <a:srgbClr val="375439"/>
                </a:solidFill>
                <a:latin typeface="Georgia"/>
              </a:rPr>
              <a:t>Read pg:119-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7786800" y="5716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-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5811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quilibrium exists when there are no unbalanced forces or torques acting on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that is motionless = stat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moving with constant velocity = dynam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82868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tability is the resistance to change of equilibrium,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dy mass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riction between the body and contact surface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ase of support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ocation of centre of gravity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7358040" y="571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-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929200" y="3357720"/>
            <a:ext cx="3071880" cy="1414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928800" y="4276800"/>
            <a:ext cx="5657760" cy="2581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5072040" y="4214880"/>
            <a:ext cx="1214640" cy="42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6000840" y="4143240"/>
            <a:ext cx="10000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5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305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5T07:31:14Z</dcterms:modified>
  <cp:revision>25</cp:revision>
  <dc:subject/>
  <dc:title>Biomechanical Principles of Motion</dc:title>
</cp:coreProperties>
</file>