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6FE-1C9B-498D-BCF8-80E8032D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F06-5137-4072-A7AF-1F63B953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11D-0A3F-4D98-84B0-43ACA3A4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31A-2C00-4320-ABC3-A121222B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6D16-209F-4FDF-8FD6-147F24CE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74CF-702E-4ACB-8CA1-580C222D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716E-3EC6-47B6-B3AA-9B2F6C1D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F3AF-557D-4EF4-AB27-9BF27E9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1104-AB54-4BF4-B004-B7E2DCE2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1EA5-2B31-44ED-B71B-3EAB3DE6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AA7A-0993-4562-8CE9-1DDB48E8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B63-96FF-4DD7-B88B-453D01FE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A6D1-F10A-4CBD-80A8-8A7552FA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6D29-88BD-45AA-B703-C2DD0778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1D44-883F-4057-9DD7-5116ADA0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068B-A458-4F46-AFBE-89324084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2D0E-EF74-48EC-A9A1-9C22DA3E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10F08-BED6-424B-8C51-AC24C56F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65706-C0AB-4B52-B47A-C7E5C071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4865A-F71C-4EC2-BD64-0D68253B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2EA9C-471D-482C-9A57-F56A2BF2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8771A-8345-4091-918C-9F7E3B09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F13-E18A-447B-B28C-291C73FA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F9D44-BD42-47BD-BBA3-C953B96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68D27-D68C-4C96-9DCC-CF1098DF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482C3-A761-4C56-B70B-D9CD3F55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BC847-F09F-4483-941D-E49F57A5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771C3-8D67-4EC5-ABEE-296742DE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CC0A4-FC2D-49D6-A198-B7248081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055FA-F58E-4F86-9E15-18889962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9709-DFA5-49F6-A088-A6A65AE3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27380-B33D-4023-836C-52AE53B3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5759-0252-4F4D-8FE1-C9E86BAA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86A-FA9E-4EE9-A0B0-004BF168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FCB7-D4FC-4C6E-A00B-6AD2317F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88F30-5354-42D4-A3E5-43B4D336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50702-9BED-4FA6-BBF5-4309C6AC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2DC4D-77B6-47D8-BD17-3A7204D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FFE9-F166-4E29-B380-379339B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4744-371F-4226-B13F-1801FE6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E8FE-77AE-4895-B050-07BD1E12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BBF45-281B-487A-B3EA-F0949900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040D-092A-4A26-95F6-1320FE8A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022-30A2-44BE-A0C0-6B9FA3DF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A67-D15B-48BD-B93E-86CA1F84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E57-DF7B-4DF1-9C1E-5F7B72D7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670-FC67-45CE-A103-64ACA4E8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F58-51F7-4CAD-9217-9E4367A8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1DF0-31C7-46C0-BB15-3CF7819D4DF4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FADF-6A6E-46DB-A7D3-5EAEDD41A4CD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D054-C01B-4062-A6BF-10043CCB85B2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60C9-2A68-44A9-9F76-3137A83AD7CD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920" y="240156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Equilibrium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a55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have three main par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axis (fulcrum or pivot poin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resistance (weight or load to be moved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force (effor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scles pulling on bones count as leve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5167440" y="3786120"/>
            <a:ext cx="397656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71680" y="3857760"/>
            <a:ext cx="4714560" cy="300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3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 Classification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7143840" y="5716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1357200" y="1389240"/>
            <a:ext cx="5572080" cy="54687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5000760" y="6715080"/>
            <a:ext cx="19285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irst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and force are on either side of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7643880" y="571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357200" y="2357280"/>
            <a:ext cx="5857920" cy="40878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1071720" y="6072120"/>
            <a:ext cx="321444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econd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occurs between the force a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7-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643040" y="2286000"/>
            <a:ext cx="47149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rd Class Lever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between the resistance and the ax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4906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11280" y="1052640"/>
            <a:ext cx="82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re used to provide a </a:t>
            </a: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= force arm ÷ resistance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ost levers in the human body are third-clas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nd have a mechanical advantage less than 1, which suits them to increased ranges of motion a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743040" y="3284640"/>
            <a:ext cx="8045280" cy="3313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694440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45c75"/>
                </a:solidFill>
                <a:latin typeface="Arial"/>
              </a:rPr>
              <a:t>© Cengage Learning Australia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are used to provide a mechanical advanta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echanical advantage = force arm ÷ resistance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st levers in the human body are third-class levers and have a mechanical advantage less than 1, which suits them to increased ranges of motion and spe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9-1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9-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714240" y="4357800"/>
            <a:ext cx="3884760" cy="2071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5072040" y="5643720"/>
            <a:ext cx="2143080" cy="7887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"/>
          <p:cNvSpPr/>
          <p:nvPr/>
        </p:nvSpPr>
        <p:spPr>
          <a:xfrm>
            <a:off x="3643200" y="6215040"/>
            <a:ext cx="114300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: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421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tudent Activity pg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Practical Activity Lev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7000920" cy="4005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Biomechanical Principles of Equilibrium – Extension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Balance &amp; Stability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Lev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Student Activity pg125 – Investigating Stabilit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Arial"/>
                <a:ea typeface="Arial"/>
              </a:rPr>
              <a:t>Key Knowledg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The different parts that make up levers including the axis, force and resistance arms and how they relate to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How do centre of gravity, base of support, line of gravity and mass affect the balance and stability of objects and sportspeopl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Key Skill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xplain the application of key biomechanical principles to a range of sporting movements  by using correct ter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practical activities that consider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Use biomechanical principles to critique the effectiveness of different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alyse different sporting actions to identify similarities and differences  as well as the correct application of biomechanical principles to improve performanc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42960" y="4429080"/>
            <a:ext cx="6737400" cy="2428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8760" y="185724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rotary effect caused by the application of an eccentric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lever arm is the perpendicular distance from the axis of rotation to the force’s line of 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1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3"/>
          <a:stretch/>
        </p:blipFill>
        <p:spPr>
          <a:xfrm>
            <a:off x="3286080" y="3571920"/>
            <a:ext cx="4497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orce Couple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ts val="1998"/>
              </a:lnSpc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imes more than one force acts on a bod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When forces acting on a body are equal but applied in opposite directions they create a force coup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couples produce torque and the object will rotate about its axis of rotation. </a:t>
            </a:r>
            <a:r>
              <a:rPr b="0" lang="en-AU" sz="2400" spc="-1" strike="noStrike">
                <a:solidFill>
                  <a:srgbClr val="375439"/>
                </a:solidFill>
                <a:latin typeface="Georgia"/>
              </a:rPr>
              <a:t>Read pg:119-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7786800" y="5716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-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714240" y="3714840"/>
            <a:ext cx="5811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quilibrium exists when there are no unbalanced forces or torques acting on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that is motionless = stat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moving with constant velocity = dynam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82868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tability is the resistance to change of equilibrium,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dy mass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riction between the body and contact surface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ase of support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ocation of centre of gravity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6"/>
          <p:cNvSpPr/>
          <p:nvPr/>
        </p:nvSpPr>
        <p:spPr>
          <a:xfrm>
            <a:off x="7358040" y="571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-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5929200" y="3357720"/>
            <a:ext cx="3071880" cy="1414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928800" y="4276800"/>
            <a:ext cx="5657760" cy="2581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>
            <a:off x="5072040" y="4214880"/>
            <a:ext cx="1214640" cy="42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6000840" y="4143240"/>
            <a:ext cx="10000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5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305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5T07:31:14Z</dcterms:modified>
  <cp:revision>25</cp:revision>
  <dc:subject/>
  <dc:title>Biomechanical Principles of Motion</dc:title>
</cp:coreProperties>
</file>