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761-61F7-42F8-8C0F-EEF50438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03F-55E7-4979-8BED-D2801327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B84-02F3-4AAA-BD52-BE7BE001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6AF-F450-4BAE-A8AF-D9C620D1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E31F-9E01-4BF3-99AD-28589C5D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9191-7090-42A5-9C19-2A93E082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04A4-D065-4E35-8792-3CB086D7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2ACF-301E-4A6E-A2BF-87C5E81D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5EB2-615F-4FF1-9A6D-DAF17029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C9F8-9913-41C5-8401-ECF2B7F1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9E21-9ADC-4733-9C1C-2722AA94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17E5-DFA3-439D-B42E-E72BAEF5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4E31-8302-4B61-BDB6-2A0CE9E5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73B9-1D94-4EFD-BBEF-B16E6340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A348-4D05-411C-B48F-BD189111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CFA4-4E13-4C8D-8E63-3AEE6616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B901-2AB2-4653-B47F-CB35FD4E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78DC16-9A8F-4491-98CD-C4613A68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218B2-613D-4137-9FAE-4BE7532E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61F34-E1AF-46C1-8A14-0B75D1B5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C2323A-FC46-4E23-B078-9C68551B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BCEB2-AD25-49E4-B590-482D3438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164B-349A-43AD-B912-29550908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CE1E2-AE3C-4A5B-8A81-986BFFE2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73FEA-2CA8-4FEE-AFB0-8ADE5878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BB5B7-3700-4C50-BA00-C135106F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C05A7-7882-4A51-BBC9-00B2AE8D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99D32-6704-45AA-B687-B52ABA5F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7414D-D18A-4861-9922-C34BF9E8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2CCEF-FB41-48AE-9505-34CD7EBE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7E850-1C12-4622-AA88-891A356F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93674-199F-4F25-8530-25305665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47CB9-009D-46E4-BA4C-B8330CE0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369-8722-4527-8029-571E6F74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E325E-CF38-412D-91AC-28CC5542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F40A4-EA73-45F3-840E-C200856A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3D372-727A-48F3-BB32-3623F44F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607A6-29F2-497D-B7EA-0818CBF9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9FE87-E721-49B5-8436-0E64129D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5E49A-DCE3-42D4-BF92-1612B5F5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68109-58A5-4A21-B6C7-F7FA8FF1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587C1-980F-4834-A854-2F4B03BE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410E3-6A94-438C-B902-A01DA309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F11-1FBB-4A00-9CF7-D235582B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78C-6CA8-4D3A-A14C-2E329A12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8FB-09DE-4668-84E3-C3DD7036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97BE-F4C9-41C9-9DA4-2115C4C3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F7E-EFF0-4374-ACD9-0FA45F62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175C-CCE2-4FCC-AE1E-4DF033BBC059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0ccb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7788-2061-428A-85AA-0A042036F518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A5AD-0036-440F-B1CD-EE20A209066C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88BC-16C3-42D0-8BCE-348FB852E29A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2920" y="2401560"/>
            <a:ext cx="88581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mechanical Principles of Equilibrium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61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Georgia"/>
              </a:rPr>
              <a:t>Unit 1: Bodies in Mo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a55"/>
                </a:solidFill>
                <a:latin typeface="Georgia"/>
              </a:rPr>
              <a:t>AOS2: Biomechanical Movement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s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evers have three main part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axis (fulcrum or pivot point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resistance (weight or load to be moved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force (effort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uscles pulling on bones count as lever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5167440" y="3786120"/>
            <a:ext cx="3976560" cy="1500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571680" y="3857760"/>
            <a:ext cx="4714560" cy="3000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3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 Classification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7143840" y="5716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-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1357200" y="1389240"/>
            <a:ext cx="5572080" cy="54687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7"/>
          <p:cNvSpPr/>
          <p:nvPr/>
        </p:nvSpPr>
        <p:spPr>
          <a:xfrm>
            <a:off x="5000760" y="6715080"/>
            <a:ext cx="192852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First Class Lever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Resistance and force are on either side of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7643880" y="571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-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357200" y="2357280"/>
            <a:ext cx="5857920" cy="40878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1071720" y="6072120"/>
            <a:ext cx="3214440" cy="57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Second Class Lever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Resistance occurs between the force and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6"/>
          <p:cNvSpPr/>
          <p:nvPr/>
        </p:nvSpPr>
        <p:spPr>
          <a:xfrm>
            <a:off x="7572240" y="571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7-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1643040" y="2286000"/>
            <a:ext cx="47149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rd Class Lever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between the resistance and the ax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84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1428840" y="2428920"/>
            <a:ext cx="4906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611280" y="1052640"/>
            <a:ext cx="82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vers are used to provide a </a:t>
            </a: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echanical advantag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echanical advantage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= force arm ÷ resistance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ost levers in the human body are third-clas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vers and have a mechanical advantage less than 1, which suits them to increased ranges of motion a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743040" y="3284640"/>
            <a:ext cx="8045280" cy="3313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694440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45c75"/>
                </a:solidFill>
                <a:latin typeface="Arial"/>
              </a:rPr>
              <a:t>© Cengage Learning Australia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evers are used to provide a mechanical advantag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echanical advantage = force arm ÷ resistance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st levers in the human body are third-class levers and have a mechanical advantage less than 1, which suits them to increased ranges of motion and spee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29-1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6"/>
          <p:cNvSpPr/>
          <p:nvPr/>
        </p:nvSpPr>
        <p:spPr>
          <a:xfrm>
            <a:off x="7572240" y="571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9-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714240" y="4357800"/>
            <a:ext cx="3884760" cy="2071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3"/>
          <a:stretch/>
        </p:blipFill>
        <p:spPr>
          <a:xfrm>
            <a:off x="5072040" y="5643720"/>
            <a:ext cx="2143080" cy="7887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7"/>
          <p:cNvSpPr/>
          <p:nvPr/>
        </p:nvSpPr>
        <p:spPr>
          <a:xfrm>
            <a:off x="3643200" y="6215040"/>
            <a:ext cx="114300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:13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421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Student Activity pg13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duguide – Practical Activity Lev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7000920" cy="4005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Biomechanical Principles of Equilibrium – Extension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– Structured Questions Balance &amp; Stability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– Structured Questions Lev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Student Activity pg125 – Investigating Stabilit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Arial"/>
                <a:ea typeface="Arial"/>
              </a:rPr>
              <a:t>Key Knowledge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The different parts that make up levers including the axis, force and resistance arms and how they relate to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How do centre of gravity, base of support, line of gravity and mass affect the balance and stability of objects and sportspeople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Key Skill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Explain the application of key biomechanical principles to a range of sporting movements  by using correct ter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Investigate and interpret graphs of biomechanical principles pertaining to movements in sports and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Participate in, analyse and report on a range of practical activities that consider biomechanical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Use biomechanical principles to critique the effectiveness of different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Analyse different sporting actions to identify similarities and differences  as well as the correct application of biomechanical principles to improve performanc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642960" y="4429080"/>
            <a:ext cx="6737400" cy="2428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28760" y="185724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the rotary effect caused by the application of an eccentric for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lever arm is the perpendicular distance from the axis of rotation to the force’s line of a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1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3"/>
          <a:stretch/>
        </p:blipFill>
        <p:spPr>
          <a:xfrm>
            <a:off x="3286080" y="3571920"/>
            <a:ext cx="44974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Force Couple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ts val="1998"/>
              </a:lnSpc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times more than one force acts on a bod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When forces acting on a body are equal but applied in opposite directions they create a force coup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couples produce torque and the object will rotate about its axis of rotation. </a:t>
            </a:r>
            <a:r>
              <a:rPr b="0" lang="en-AU" sz="2400" spc="-1" strike="noStrike">
                <a:solidFill>
                  <a:srgbClr val="375439"/>
                </a:solidFill>
                <a:latin typeface="Georgia"/>
              </a:rPr>
              <a:t>Read pg:119-1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6"/>
          <p:cNvSpPr/>
          <p:nvPr/>
        </p:nvSpPr>
        <p:spPr>
          <a:xfrm>
            <a:off x="7786800" y="5716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19-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714240" y="3714840"/>
            <a:ext cx="58118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Equilibrium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quilibrium exists when there are no unbalanced forces or torques acting on an objec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object that is motionless = static equilibri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object moving with constant velocity = dynamic equilibri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12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828684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tability is the resistance to change of equilibrium, affected b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ody mass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riction between the body and contact surface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ase of support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ocation of centre of gravity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Equilibrium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6"/>
          <p:cNvSpPr/>
          <p:nvPr/>
        </p:nvSpPr>
        <p:spPr>
          <a:xfrm>
            <a:off x="7358040" y="571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1-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5929200" y="3357720"/>
            <a:ext cx="3071880" cy="1414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3"/>
          <a:stretch/>
        </p:blipFill>
        <p:spPr>
          <a:xfrm>
            <a:off x="928800" y="4276800"/>
            <a:ext cx="5657760" cy="2581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/>
          <p:cNvSpPr/>
          <p:nvPr/>
        </p:nvSpPr>
        <p:spPr>
          <a:xfrm>
            <a:off x="5072040" y="4214880"/>
            <a:ext cx="1214640" cy="42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6000840" y="4143240"/>
            <a:ext cx="100008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125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305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8:46:05Z</dcterms:created>
  <dc:creator>pas</dc:creator>
  <dc:description/>
  <dc:language>en-US</dc:language>
  <cp:lastModifiedBy>pas</cp:lastModifiedBy>
  <dcterms:modified xsi:type="dcterms:W3CDTF">2011-01-25T07:31:14Z</dcterms:modified>
  <cp:revision>25</cp:revision>
  <dc:subject/>
  <dc:title>Biomechanical Principles of Motion</dc:title>
</cp:coreProperties>
</file>