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3FB-1E05-4239-8F0E-45AB4E42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E09-FE5A-47CF-A4EF-467F433E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F8F-42BE-4BA3-AEB5-ACB3776F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B3F-596D-4F11-95D8-47C06B23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1056-1555-47B1-8A53-9FA9E096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4434-B9E1-40C6-A09A-958BE357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4130-1BC6-4464-94AE-9744750E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5F26-77AB-4D09-AACC-6ACD07DE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2AFB-63E1-4DEF-A53F-11D18092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F56F-6E8C-45B1-89C6-21965A3D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6ED7-ACC7-4845-9F76-C8B1F458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F9D-0B9B-461B-8E02-FC2AECAB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5FFC-F773-4795-B70E-A891E891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121F-3A95-4BBB-BAF7-984813D8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E81E-0AF9-469E-BA93-730EF02C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0C86-4D74-406C-85D0-F7974926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03C2-EDC6-45DC-9C19-5FD18120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6796C-E260-46BB-80B3-A2A0E53E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A0841-5132-410B-B4A9-F0033B24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78C9D-531C-4429-8636-131CEA99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86420-A0F7-493B-9799-C87FE1BE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44D5D-A424-4C91-936B-7A3943BB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665-A43C-4B5C-B3FA-A227835F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F2EE3-F5B9-428D-92E3-6888CCAD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C9205-D090-4B78-B57F-251FEE48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C7666-6B0E-4819-A3A8-BB5DF358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0A58C-D10F-458B-910B-FC583026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43D1D-5A8A-4F2E-924B-F13160FA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5D7E9-A255-4C6A-A7FA-FF48D559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1B396-54D6-4B62-A121-125B139F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9255-A8CF-4F25-8BA2-7FDB4C0C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A284-F36B-4461-A7A9-DDA44714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D1AF-5F80-4B4A-B892-52AE66A8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E39-9C37-4BE6-81CC-AF9F98ED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99A7-F524-4FE3-AA6E-A9F854CF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60466-27C5-4E77-9740-B9381582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090AC-88A5-4C9F-899F-ED99D2BF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959E0-9538-4088-9C45-01BECE4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C063-E550-4273-962B-AE26FF7F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60668-5C5B-4E90-90E6-EE26A02C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3E62-10B1-432E-992A-82206E48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434E-4FB2-402F-8DE8-0A84D1C9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F507D-C82A-4102-BD11-099E4B5C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C0D-1FE0-4234-B215-B0E29CB2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105-964C-487B-9345-FD746616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ED5-D1F3-40B4-9468-3E549FA9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669-37A9-4439-9EBF-34AF7789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365-FDBE-4BC9-8DDB-628D8178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260D-0129-4203-B958-0C8BAC53AA70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6D87-FF52-4A54-870E-8587F40474D9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8271-E496-4B8A-AE5E-2A7FE3E804DC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9ED8-2042-4E71-98EC-012BBA2B8FE4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920" y="240156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Equilibrium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a55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have three main par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axis (fulcrum or pivot poin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resistance (weight or load to be moved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force (effor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scles pulling on bones count as leve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5167440" y="3786120"/>
            <a:ext cx="397656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71680" y="3857760"/>
            <a:ext cx="4714560" cy="300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3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 Classification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7143840" y="5716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1357200" y="1389240"/>
            <a:ext cx="5572080" cy="54687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5000760" y="6715080"/>
            <a:ext cx="19285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irst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and force are on either side of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7643880" y="571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357200" y="2357280"/>
            <a:ext cx="5857920" cy="40878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1071720" y="6072120"/>
            <a:ext cx="321444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econd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occurs between the force a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7-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643040" y="2286000"/>
            <a:ext cx="47149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rd Class Lever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between the resistance and the ax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4906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11280" y="1052640"/>
            <a:ext cx="82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re used to provide a </a:t>
            </a: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= force arm ÷ resistance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ost levers in the human body are third-clas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nd have a mechanical advantage less than 1, which suits them to increased ranges of motion a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743040" y="3284640"/>
            <a:ext cx="8045280" cy="3313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694440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45c75"/>
                </a:solidFill>
                <a:latin typeface="Arial"/>
              </a:rPr>
              <a:t>© Cengage Learning Australia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are used to provide a mechanical advanta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echanical advantage = force arm ÷ resistance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st levers in the human body are third-class levers and have a mechanical advantage less than 1, which suits them to increased ranges of motion and spe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9-1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9-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714240" y="4357800"/>
            <a:ext cx="3884760" cy="2071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5072040" y="5643720"/>
            <a:ext cx="2143080" cy="7887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"/>
          <p:cNvSpPr/>
          <p:nvPr/>
        </p:nvSpPr>
        <p:spPr>
          <a:xfrm>
            <a:off x="3643200" y="6215040"/>
            <a:ext cx="114300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: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421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tudent Activity pg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Practical Activity Lev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7000920" cy="4005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Biomechanical Principles of Equilibrium – Extension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Balance &amp; Stability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Lev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Student Activity pg125 – Investigating Stabilit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Arial"/>
                <a:ea typeface="Arial"/>
              </a:rPr>
              <a:t>Key Knowledg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The different parts that make up levers including the axis, force and resistance arms and how they relate to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How do centre of gravity, base of support, line of gravity and mass affect the balance and stability of objects and sportspeopl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Key Skill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xplain the application of key biomechanical principles to a range of sporting movements  by using correct ter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practical activities that consider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Use biomechanical principles to critique the effectiveness of different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alyse different sporting actions to identify similarities and differences  as well as the correct application of biomechanical principles to improve performanc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42960" y="4429080"/>
            <a:ext cx="6737400" cy="2428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8760" y="185724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rotary effect caused by the application of an eccentric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lever arm is the perpendicular distance from the axis of rotation to the force’s line of 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1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3"/>
          <a:stretch/>
        </p:blipFill>
        <p:spPr>
          <a:xfrm>
            <a:off x="3286080" y="3571920"/>
            <a:ext cx="4497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orce Couple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ts val="1998"/>
              </a:lnSpc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imes more than one force acts on a bod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When forces acting on a body are equal but applied in opposite directions they create a force coup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couples produce torque and the object will rotate about its axis of rotation. </a:t>
            </a:r>
            <a:r>
              <a:rPr b="0" lang="en-AU" sz="2400" spc="-1" strike="noStrike">
                <a:solidFill>
                  <a:srgbClr val="375439"/>
                </a:solidFill>
                <a:latin typeface="Georgia"/>
              </a:rPr>
              <a:t>Read pg:119-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7786800" y="5716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-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714240" y="3714840"/>
            <a:ext cx="5811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quilibrium exists when there are no unbalanced forces or torques acting on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that is motionless = stat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moving with constant velocity = dynam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82868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tability is the resistance to change of equilibrium,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dy mass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riction between the body and contact surface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ase of support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ocation of centre of gravity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6"/>
          <p:cNvSpPr/>
          <p:nvPr/>
        </p:nvSpPr>
        <p:spPr>
          <a:xfrm>
            <a:off x="7358040" y="571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-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5929200" y="3357720"/>
            <a:ext cx="3071880" cy="1414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928800" y="4276800"/>
            <a:ext cx="5657760" cy="2581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>
            <a:off x="5072040" y="4214880"/>
            <a:ext cx="1214640" cy="42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6000840" y="4143240"/>
            <a:ext cx="10000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5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305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5T07:31:14Z</dcterms:modified>
  <cp:revision>25</cp:revision>
  <dc:subject/>
  <dc:title>Biomechanical Principles of Motion</dc:title>
</cp:coreProperties>
</file>