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33B-56B8-4609-B5CF-D5C2AA93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EC0-8D7B-4F7B-8E13-2DC97CE1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A2B-0DA7-4C74-9069-0533555A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C98-AE76-46C2-AB26-023B12A2A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49E56-9EA5-495F-84F0-E8DD05F3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EA6D-C06B-485B-A867-AD2D6B5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A5E8-7519-4653-9CB1-4C18C87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3BDF-49C7-40BF-AA86-832179F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FFA5-80B1-40FC-B508-6BC1D637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3139-D5EA-4BC0-A611-8C19FE5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7490-DED6-49B4-82E6-92C6694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7BF-E13B-4240-9A6C-AFAAE2C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B597-F395-40C0-A13D-3586FE2C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90DE-E26E-4BDE-80BA-C871A0E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5B06-FE81-4933-8047-B86386C8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16F-0FD3-4028-94B1-C8873BA4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0301-7CC8-4D88-B487-9EAD3458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642AD-6EF4-4924-B2B8-EAB6B1FD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FF53F-78BF-405F-9394-B8E1D97E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99845-A61D-4C0E-8569-2FC5409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C7C64-8497-4663-9BB6-B0EF8B36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3B8B3-3101-43C8-9C7A-DDB86A3C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C3B-48CD-446A-BB96-B35067A3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74A26-2C7D-4220-BEFD-01B81FEC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33A98-2E2E-4BFC-BF60-D4FE641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3C4F2-4596-43A2-B09F-AEA28BE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229E3-C9BA-4513-A297-7E069545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BB8F4-980E-4D82-8C42-9DD1C386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DD933-0588-4A41-859F-5BB7CBEF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10189-F8F4-4128-B7D8-DE155813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CF648-9DF3-4E94-8C2B-2459CB60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9D8F-6767-4A73-ACF6-694532C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BE39-D2EB-49EE-B7F3-56F95345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A36-B392-48C0-998B-E42870DD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6DC2E-F506-4B9E-91E9-C820B6D4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247D4-8C51-443D-822E-1A454F5C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08156-77A2-437B-9B3A-DE37F99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0B3A-4482-44D5-9F26-A79BCE6E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C2648-1D0A-4A2A-AC0A-A719EFAC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2D7BE-9435-44C3-99C8-9FFEF80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0070-DFF7-4DA4-A48D-D4BFCCCD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A8FD9-3835-4D27-91E9-CBC25788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D6B0-800B-4633-960A-3FEB612B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79A-2012-4503-9FD8-0A1A6956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BFB-D073-495A-8DDE-E139C133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81F9-695B-473C-9DCD-3AD6BDD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043A-354F-4F8F-97E0-1D70D845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0D0-F7D4-497B-AEE1-C9B2D5DF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6A0-4E3B-4B33-A470-FC511B12F5E8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60D0-8D69-4C32-BD7B-58E18E95474F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AC0D-2AF7-451D-96FC-FFA6A50190B0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A757-A1ED-4EE6-93FD-AB955C0F3254}" type="slidenum">
              <a:rPr b="0" lang="en-A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920" y="2401560"/>
            <a:ext cx="88581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mechanical Principles of Equilibrium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61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6a55"/>
                </a:solidFill>
                <a:latin typeface="Georgia"/>
              </a:rPr>
              <a:t>Unit 1: Bodies in Motion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76a55"/>
                </a:solidFill>
                <a:latin typeface="Georgia"/>
              </a:rPr>
              <a:t>AOS2: Biomechanical Movement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have three main part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axis (fulcrum or pivot poin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resistance (weight or load to be moved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 force (effort)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uscles pulling on bones count as levers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167440" y="3786120"/>
            <a:ext cx="3976560" cy="15001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4714560" cy="3000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" descr=""/>
          <p:cNvPicPr/>
          <p:nvPr/>
        </p:nvPicPr>
        <p:blipFill>
          <a:blip r:embed="rId3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 Classification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7143840" y="5716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1357200" y="1389240"/>
            <a:ext cx="5572080" cy="546876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7"/>
          <p:cNvSpPr/>
          <p:nvPr/>
        </p:nvSpPr>
        <p:spPr>
          <a:xfrm>
            <a:off x="5000760" y="6715080"/>
            <a:ext cx="192852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irst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and force are on either side of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3" name="TextBox 6"/>
          <p:cNvSpPr/>
          <p:nvPr/>
        </p:nvSpPr>
        <p:spPr>
          <a:xfrm>
            <a:off x="7643880" y="571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6-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1357200" y="2357280"/>
            <a:ext cx="5857920" cy="40878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1071720" y="6072120"/>
            <a:ext cx="3214440" cy="57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econd Class Lever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Resistance occurs between the force and the axi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7-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643040" y="2286000"/>
            <a:ext cx="471492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rd Class Lever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between the resistance and the axi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428840" y="2428920"/>
            <a:ext cx="49068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611280" y="105264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re used to provide a </a:t>
            </a: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echanical advantag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= force arm ÷ resistance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92d050"/>
                </a:solidFill>
                <a:latin typeface="Arial"/>
              </a:rPr>
              <a:t>Most levers in the human body are third-clas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vers and have a mechanical advantage less than 1, which suits them to increased ranges of motion and sp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743040" y="3284640"/>
            <a:ext cx="8045280" cy="3313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6944400" y="6611760"/>
            <a:ext cx="218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45c75"/>
                </a:solidFill>
                <a:latin typeface="Arial"/>
              </a:rPr>
              <a:t>© Cengage Learning Australia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Lever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evers are used to provide a mechanical advanta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echanical advantage = force arm ÷ resistance ar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Most levers in the human body are third-class levers and have a mechanical advantage less than 1, which suits them to increased ranges of motion and spe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9-1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7572240" y="571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9-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714240" y="4357800"/>
            <a:ext cx="3884760" cy="20714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3"/>
          <a:stretch/>
        </p:blipFill>
        <p:spPr>
          <a:xfrm>
            <a:off x="5072040" y="5643720"/>
            <a:ext cx="2143080" cy="7887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7"/>
          <p:cNvSpPr/>
          <p:nvPr/>
        </p:nvSpPr>
        <p:spPr>
          <a:xfrm>
            <a:off x="3643200" y="6215040"/>
            <a:ext cx="114300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: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428760" y="1714680"/>
            <a:ext cx="8421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Student Activity pg13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uguide – Practical Activity Lev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7000920" cy="4005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Biomechanical Principles of Equilibrium – Extension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Balance &amp; Stability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duguide – Structured Questions Lev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eorgia"/>
              </a:rPr>
              <a:t>Student Activity pg125 – Investigating Stabilit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Arial"/>
                <a:ea typeface="Arial"/>
              </a:rPr>
              <a:t>Key Knowledg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The different parts that make up levers including the axis, force and resistance arms and how they relate to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How do centre of gravity, base of support, line of gravity and mass affect the balance and stability of objects and sportspeople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Key Skill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Explain the application of key biomechanical principles to a range of sporting movements  by using correct ter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Investigate and interpret graphs of biomechanical principles pertaining to movements in sports and activ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Participate in, analyse and report on a range of practical activities that consider biomechanical princip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Use biomechanical principles to critique the effectiveness of different movement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15000"/>
              </a:lnSpc>
              <a:spcBef>
                <a:spcPts val="300"/>
              </a:spcBef>
              <a:buClr>
                <a:srgbClr val="a8cdd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Calibri"/>
              </a:rPr>
              <a:t>Analyse different sporting actions to identify similarities and differences  as well as the correct application of biomechanical principles to improve performan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642960" y="4429080"/>
            <a:ext cx="6737400" cy="24289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orque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28760" y="185724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orque is the rotary effect caused by the application of an eccentric forc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The lever arm is the perpendicular distance from the axis of rotation to the force’s line of ac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19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3"/>
          <a:stretch/>
        </p:blipFill>
        <p:spPr>
          <a:xfrm>
            <a:off x="3286080" y="3571920"/>
            <a:ext cx="4497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Force Couples 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ts val="1998"/>
              </a:lnSpc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ometimes more than one force acts on a bod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When forces acting on a body are equal but applied in opposite directions they create a force coup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orce couples produce torque and the object will rotate about its axis of rotation. </a:t>
            </a:r>
            <a:r>
              <a:rPr b="0" lang="en-AU" sz="2400" spc="-1" strike="noStrike">
                <a:solidFill>
                  <a:srgbClr val="375439"/>
                </a:solidFill>
                <a:latin typeface="Georgia"/>
              </a:rPr>
              <a:t>Read pg:119-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"/>
          <p:cNvSpPr/>
          <p:nvPr/>
        </p:nvSpPr>
        <p:spPr>
          <a:xfrm>
            <a:off x="7786800" y="5716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19-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714240" y="3714840"/>
            <a:ext cx="58118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Equilibrium exists when there are no unbalanced forces or torques acting on an objec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that is motionless = stat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An object moving with constant velocity = dynamic equilibriu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5439"/>
                </a:solidFill>
                <a:latin typeface="Georgia"/>
              </a:rPr>
              <a:t>Read pg:1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1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500040" y="1785960"/>
            <a:ext cx="82868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Stability is the resistance to change of equilibrium, affected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ody mass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Friction between the body and contact surface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Base of support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b0cc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Georgia"/>
              </a:rPr>
              <a:t>Location of centre of gravity</a:t>
            </a:r>
            <a:endParaRPr b="0" lang="en-US" sz="2400" spc="-1" strike="noStrike">
              <a:solidFill>
                <a:srgbClr val="b0ccb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Equilibrium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48" name="TextBox 6"/>
          <p:cNvSpPr/>
          <p:nvPr/>
        </p:nvSpPr>
        <p:spPr>
          <a:xfrm>
            <a:off x="7358040" y="571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1-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5929200" y="3357720"/>
            <a:ext cx="3071880" cy="14144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"/>
          <p:cNvPicPr/>
          <p:nvPr/>
        </p:nvPicPr>
        <p:blipFill>
          <a:blip r:embed="rId3"/>
          <a:stretch/>
        </p:blipFill>
        <p:spPr>
          <a:xfrm>
            <a:off x="928800" y="4276800"/>
            <a:ext cx="5657760" cy="25812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7"/>
          <p:cNvSpPr/>
          <p:nvPr/>
        </p:nvSpPr>
        <p:spPr>
          <a:xfrm>
            <a:off x="5072040" y="4214880"/>
            <a:ext cx="1214640" cy="428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000840" y="4143240"/>
            <a:ext cx="10000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300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6a55"/>
                </a:solidFill>
                <a:latin typeface="Trebuchet MS"/>
              </a:rPr>
              <a:t>Thinking Things Through pg125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785960"/>
            <a:ext cx="822960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139160" y="4821120"/>
            <a:ext cx="2011320" cy="2043360"/>
          </a:xfrm>
          <a:prstGeom prst="rect">
            <a:avLst/>
          </a:prstGeom>
          <a:ln w="0">
            <a:noFill/>
          </a:ln>
        </p:spPr>
      </p:pic>
      <p:sp>
        <p:nvSpPr>
          <p:cNvPr id="256" name="TextBox 6"/>
          <p:cNvSpPr/>
          <p:nvPr/>
        </p:nvSpPr>
        <p:spPr>
          <a:xfrm>
            <a:off x="8001000" y="571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5439"/>
                </a:solidFill>
                <a:latin typeface="Georgia"/>
              </a:rPr>
              <a:t>pg: 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2"/>
          <a:stretch/>
        </p:blipFill>
        <p:spPr>
          <a:xfrm>
            <a:off x="500040" y="1714680"/>
            <a:ext cx="83059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08:46:05Z</dcterms:created>
  <dc:creator>pas</dc:creator>
  <dc:description/>
  <dc:language>en-US</dc:language>
  <cp:lastModifiedBy>pas</cp:lastModifiedBy>
  <dcterms:modified xsi:type="dcterms:W3CDTF">2011-01-25T07:31:14Z</dcterms:modified>
  <cp:revision>25</cp:revision>
  <dc:subject/>
  <dc:title>Biomechanical Principles of Motion</dc:title>
</cp:coreProperties>
</file>